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03C-A3B3-4F39-9652-592B2CA8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1D3-8C0B-4968-B4A6-7DE5BE10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FF3-3FD4-4ACC-8CE9-9A7DB0F4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77D-6E63-49E7-9FA5-95EF8E72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03DE-4E44-4BA1-891D-5A2FBED5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43FF-B128-4D02-ABD6-854FDDB5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CBD1-2EA6-4E19-B199-51665432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B36B-9DCF-4E43-9873-3F4BC359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3222-CE37-4AC2-B89C-D66E3DB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220F-1AC0-4B3B-8A30-37C44DFA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E104-7EB1-4D4A-B5C6-C732FAE5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235-D27C-4294-8D22-A6FBEAC1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0418-5E14-4D45-A64A-48D4338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D111-A89D-4121-9B25-E338A38B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938F-9D12-42CC-8A35-A163E6C8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1B75-6773-4285-B2F8-1BA17808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39BC-A8DF-436C-B2CE-2B0B7305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67A-6386-4946-B2CE-5D10C51B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E35-F514-4359-9A68-60F8FC6F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1A3-A1C3-4011-AE21-9F7F6895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BDA-51D9-4AD0-B9D1-B00EA11B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9B5-326D-4FEB-BA8A-5DDEF79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DAB-330E-4756-B4B4-1E71F1F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7AB-C5B9-45F0-81D6-43B3A010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F663-DBF3-4D0C-B934-2DD32634B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1832-3598-4A7B-B181-9741F1A76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Proportion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proportion?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portion states that two ratios are equ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the numbers diagonal from each other are equal when multiplied (cross products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times 15 = 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imes 20 = 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2743200" y="2438280"/>
          <a:ext cx="11685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1168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490840" y="2152800"/>
            <a:ext cx="1474560" cy="1428480"/>
          </a:xfrm>
          <a:custGeom>
            <a:avLst/>
            <a:gdLst/>
            <a:ahLst/>
            <a:rect l="l" t="t" r="r" b="b"/>
            <a:pathLst>
              <a:path w="4093" h="3970">
                <a:moveTo>
                  <a:pt x="8111" y="6400"/>
                </a:moveTo>
                <a:cubicBezTo>
                  <a:pt x="8237" y="6400"/>
                  <a:pt x="8268" y="6437"/>
                  <a:pt x="8359" y="6524"/>
                </a:cubicBezTo>
                <a:cubicBezTo>
                  <a:pt x="8398" y="6562"/>
                  <a:pt x="8400" y="6579"/>
                  <a:pt x="8434" y="6573"/>
                </a:cubicBezTo>
              </a:path>
              <a:path w="4093" h="3970">
                <a:moveTo>
                  <a:pt x="8310" y="6251"/>
                </a:moveTo>
                <a:cubicBezTo>
                  <a:pt x="8293" y="6402"/>
                  <a:pt x="8285" y="6545"/>
                  <a:pt x="8285" y="6697"/>
                </a:cubicBezTo>
                <a:cubicBezTo>
                  <a:pt x="8285" y="6722"/>
                  <a:pt x="8285" y="6730"/>
                  <a:pt x="8285" y="6697"/>
                </a:cubicBezTo>
              </a:path>
              <a:path w="4093" h="3970">
                <a:moveTo>
                  <a:pt x="8558" y="6176"/>
                </a:moveTo>
                <a:cubicBezTo>
                  <a:pt x="8571" y="6194"/>
                  <a:pt x="8597" y="6269"/>
                  <a:pt x="8607" y="6276"/>
                </a:cubicBezTo>
                <a:cubicBezTo>
                  <a:pt x="8682" y="6326"/>
                  <a:pt x="8801" y="6212"/>
                  <a:pt x="8880" y="6251"/>
                </a:cubicBezTo>
                <a:cubicBezTo>
                  <a:pt x="8963" y="6292"/>
                  <a:pt x="8883" y="6492"/>
                  <a:pt x="8830" y="6524"/>
                </a:cubicBezTo>
                <a:cubicBezTo>
                  <a:pt x="8779" y="6524"/>
                  <a:pt x="8761" y="6522"/>
                  <a:pt x="8756" y="6474"/>
                </a:cubicBezTo>
              </a:path>
              <a:path w="4093" h="3970">
                <a:moveTo>
                  <a:pt x="8582" y="6201"/>
                </a:moveTo>
                <a:cubicBezTo>
                  <a:pt x="8635" y="6131"/>
                  <a:pt x="8719" y="6016"/>
                  <a:pt x="8781" y="5978"/>
                </a:cubicBezTo>
                <a:cubicBezTo>
                  <a:pt x="8806" y="5978"/>
                  <a:pt x="8814" y="5978"/>
                  <a:pt x="8830" y="5978"/>
                </a:cubicBezTo>
              </a:path>
              <a:path w="4093" h="3970">
                <a:moveTo>
                  <a:pt x="8806" y="7193"/>
                </a:moveTo>
                <a:cubicBezTo>
                  <a:pt x="8794" y="7155"/>
                  <a:pt x="8792" y="7157"/>
                  <a:pt x="8781" y="7119"/>
                </a:cubicBezTo>
                <a:cubicBezTo>
                  <a:pt x="8765" y="7060"/>
                  <a:pt x="8788" y="7038"/>
                  <a:pt x="8731" y="6995"/>
                </a:cubicBezTo>
                <a:cubicBezTo>
                  <a:pt x="8695" y="6968"/>
                  <a:pt x="8645" y="6978"/>
                  <a:pt x="8607" y="6945"/>
                </a:cubicBezTo>
                <a:cubicBezTo>
                  <a:pt x="8549" y="6895"/>
                  <a:pt x="8525" y="6882"/>
                  <a:pt x="8458" y="6846"/>
                </a:cubicBezTo>
                <a:cubicBezTo>
                  <a:pt x="8383" y="6806"/>
                  <a:pt x="8309" y="6775"/>
                  <a:pt x="8235" y="6747"/>
                </a:cubicBezTo>
                <a:cubicBezTo>
                  <a:pt x="8136" y="6710"/>
                  <a:pt x="8038" y="6680"/>
                  <a:pt x="7938" y="6648"/>
                </a:cubicBezTo>
                <a:cubicBezTo>
                  <a:pt x="7743" y="6585"/>
                  <a:pt x="7575" y="6533"/>
                  <a:pt x="7367" y="6548"/>
                </a:cubicBezTo>
                <a:cubicBezTo>
                  <a:pt x="7262" y="6556"/>
                  <a:pt x="7152" y="6573"/>
                  <a:pt x="7069" y="6648"/>
                </a:cubicBezTo>
                <a:cubicBezTo>
                  <a:pt x="7010" y="6701"/>
                  <a:pt x="6962" y="6822"/>
                  <a:pt x="6945" y="6896"/>
                </a:cubicBezTo>
                <a:cubicBezTo>
                  <a:pt x="6927" y="6977"/>
                  <a:pt x="6945" y="7057"/>
                  <a:pt x="6995" y="7144"/>
                </a:cubicBezTo>
                <a:cubicBezTo>
                  <a:pt x="7062" y="7261"/>
                  <a:pt x="7151" y="7345"/>
                  <a:pt x="7243" y="7441"/>
                </a:cubicBezTo>
                <a:cubicBezTo>
                  <a:pt x="7314" y="7515"/>
                  <a:pt x="7387" y="7578"/>
                  <a:pt x="7466" y="7640"/>
                </a:cubicBezTo>
                <a:cubicBezTo>
                  <a:pt x="7513" y="7677"/>
                  <a:pt x="7548" y="7706"/>
                  <a:pt x="7590" y="7739"/>
                </a:cubicBezTo>
                <a:cubicBezTo>
                  <a:pt x="7658" y="7793"/>
                  <a:pt x="7720" y="7861"/>
                  <a:pt x="7789" y="7913"/>
                </a:cubicBezTo>
                <a:cubicBezTo>
                  <a:pt x="7896" y="7994"/>
                  <a:pt x="8003" y="8079"/>
                  <a:pt x="8111" y="8161"/>
                </a:cubicBezTo>
                <a:cubicBezTo>
                  <a:pt x="8182" y="8215"/>
                  <a:pt x="8261" y="8237"/>
                  <a:pt x="8334" y="8285"/>
                </a:cubicBezTo>
                <a:cubicBezTo>
                  <a:pt x="8412" y="8337"/>
                  <a:pt x="8511" y="8404"/>
                  <a:pt x="8582" y="8458"/>
                </a:cubicBezTo>
                <a:cubicBezTo>
                  <a:pt x="8651" y="8510"/>
                  <a:pt x="8745" y="8582"/>
                  <a:pt x="8806" y="8632"/>
                </a:cubicBezTo>
                <a:cubicBezTo>
                  <a:pt x="8890" y="8701"/>
                  <a:pt x="8929" y="8784"/>
                  <a:pt x="9004" y="8855"/>
                </a:cubicBezTo>
                <a:cubicBezTo>
                  <a:pt x="9093" y="8940"/>
                  <a:pt x="9184" y="9022"/>
                  <a:pt x="9277" y="9103"/>
                </a:cubicBezTo>
                <a:cubicBezTo>
                  <a:pt x="9378" y="9191"/>
                  <a:pt x="9495" y="9253"/>
                  <a:pt x="9599" y="9327"/>
                </a:cubicBezTo>
                <a:cubicBezTo>
                  <a:pt x="9697" y="9397"/>
                  <a:pt x="9796" y="9493"/>
                  <a:pt x="9897" y="9550"/>
                </a:cubicBezTo>
                <a:cubicBezTo>
                  <a:pt x="9975" y="9594"/>
                  <a:pt x="10083" y="9656"/>
                  <a:pt x="10170" y="9674"/>
                </a:cubicBezTo>
                <a:cubicBezTo>
                  <a:pt x="10262" y="9693"/>
                  <a:pt x="10380" y="9676"/>
                  <a:pt x="10468" y="9649"/>
                </a:cubicBezTo>
                <a:cubicBezTo>
                  <a:pt x="10577" y="9616"/>
                  <a:pt x="10648" y="9547"/>
                  <a:pt x="10740" y="9500"/>
                </a:cubicBezTo>
                <a:cubicBezTo>
                  <a:pt x="10821" y="9459"/>
                  <a:pt x="10862" y="9455"/>
                  <a:pt x="10914" y="9376"/>
                </a:cubicBezTo>
                <a:cubicBezTo>
                  <a:pt x="10982" y="9274"/>
                  <a:pt x="11031" y="9130"/>
                  <a:pt x="11013" y="9004"/>
                </a:cubicBezTo>
                <a:cubicBezTo>
                  <a:pt x="10996" y="8891"/>
                  <a:pt x="10881" y="8791"/>
                  <a:pt x="10815" y="8706"/>
                </a:cubicBezTo>
                <a:cubicBezTo>
                  <a:pt x="10738" y="8607"/>
                  <a:pt x="10673" y="8552"/>
                  <a:pt x="10567" y="8483"/>
                </a:cubicBezTo>
                <a:cubicBezTo>
                  <a:pt x="10364" y="8352"/>
                  <a:pt x="10135" y="8272"/>
                  <a:pt x="9922" y="8161"/>
                </a:cubicBezTo>
                <a:cubicBezTo>
                  <a:pt x="9821" y="8108"/>
                  <a:pt x="9710" y="8035"/>
                  <a:pt x="9624" y="7962"/>
                </a:cubicBezTo>
                <a:cubicBezTo>
                  <a:pt x="9409" y="7779"/>
                  <a:pt x="9243" y="7545"/>
                  <a:pt x="9029" y="7367"/>
                </a:cubicBezTo>
                <a:cubicBezTo>
                  <a:pt x="8972" y="7320"/>
                  <a:pt x="8927" y="7282"/>
                  <a:pt x="8880" y="7243"/>
                </a:cubicBezTo>
                <a:cubicBezTo>
                  <a:pt x="8841" y="7211"/>
                  <a:pt x="8841" y="7204"/>
                  <a:pt x="8806" y="7169"/>
                </a:cubicBezTo>
              </a:path>
              <a:path w="4093" h="3970">
                <a:moveTo>
                  <a:pt x="7714" y="9674"/>
                </a:moveTo>
                <a:cubicBezTo>
                  <a:pt x="7782" y="9610"/>
                  <a:pt x="7881" y="9521"/>
                  <a:pt x="7962" y="9451"/>
                </a:cubicBezTo>
                <a:cubicBezTo>
                  <a:pt x="8082" y="9347"/>
                  <a:pt x="8196" y="9240"/>
                  <a:pt x="8310" y="9128"/>
                </a:cubicBezTo>
                <a:cubicBezTo>
                  <a:pt x="8391" y="9048"/>
                  <a:pt x="8469" y="8975"/>
                  <a:pt x="8558" y="8905"/>
                </a:cubicBezTo>
                <a:cubicBezTo>
                  <a:pt x="8644" y="8837"/>
                  <a:pt x="8731" y="8766"/>
                  <a:pt x="8806" y="8682"/>
                </a:cubicBezTo>
                <a:cubicBezTo>
                  <a:pt x="8881" y="8599"/>
                  <a:pt x="8937" y="8528"/>
                  <a:pt x="9029" y="8458"/>
                </a:cubicBezTo>
                <a:cubicBezTo>
                  <a:pt x="9118" y="8390"/>
                  <a:pt x="9218" y="8335"/>
                  <a:pt x="9302" y="8260"/>
                </a:cubicBezTo>
                <a:cubicBezTo>
                  <a:pt x="9390" y="8182"/>
                  <a:pt x="9478" y="8111"/>
                  <a:pt x="9575" y="8037"/>
                </a:cubicBezTo>
                <a:cubicBezTo>
                  <a:pt x="9652" y="7978"/>
                  <a:pt x="9710" y="7916"/>
                  <a:pt x="9773" y="7863"/>
                </a:cubicBezTo>
                <a:cubicBezTo>
                  <a:pt x="9871" y="7780"/>
                  <a:pt x="9971" y="7695"/>
                  <a:pt x="10071" y="7615"/>
                </a:cubicBezTo>
                <a:cubicBezTo>
                  <a:pt x="10200" y="7512"/>
                  <a:pt x="10338" y="7416"/>
                  <a:pt x="10468" y="7317"/>
                </a:cubicBezTo>
                <a:cubicBezTo>
                  <a:pt x="10541" y="7262"/>
                  <a:pt x="10657" y="7212"/>
                  <a:pt x="10716" y="7144"/>
                </a:cubicBezTo>
                <a:cubicBezTo>
                  <a:pt x="10778" y="7072"/>
                  <a:pt x="10824" y="6963"/>
                  <a:pt x="10840" y="6871"/>
                </a:cubicBezTo>
                <a:cubicBezTo>
                  <a:pt x="10854" y="6788"/>
                  <a:pt x="10842" y="6643"/>
                  <a:pt x="10790" y="6573"/>
                </a:cubicBezTo>
                <a:cubicBezTo>
                  <a:pt x="10711" y="6466"/>
                  <a:pt x="10612" y="6411"/>
                  <a:pt x="10492" y="6400"/>
                </a:cubicBezTo>
                <a:cubicBezTo>
                  <a:pt x="10334" y="6385"/>
                  <a:pt x="10212" y="6468"/>
                  <a:pt x="10071" y="6524"/>
                </a:cubicBezTo>
                <a:cubicBezTo>
                  <a:pt x="9857" y="6608"/>
                  <a:pt x="9685" y="6679"/>
                  <a:pt x="9525" y="6846"/>
                </a:cubicBezTo>
                <a:cubicBezTo>
                  <a:pt x="9436" y="6940"/>
                  <a:pt x="9346" y="7005"/>
                  <a:pt x="9252" y="7094"/>
                </a:cubicBezTo>
                <a:cubicBezTo>
                  <a:pt x="9089" y="7248"/>
                  <a:pt x="8926" y="7402"/>
                  <a:pt x="8806" y="7590"/>
                </a:cubicBezTo>
                <a:cubicBezTo>
                  <a:pt x="8725" y="7717"/>
                  <a:pt x="8664" y="7878"/>
                  <a:pt x="8558" y="7987"/>
                </a:cubicBezTo>
                <a:cubicBezTo>
                  <a:pt x="8420" y="8129"/>
                  <a:pt x="8268" y="8259"/>
                  <a:pt x="8111" y="8384"/>
                </a:cubicBezTo>
                <a:cubicBezTo>
                  <a:pt x="7959" y="8505"/>
                  <a:pt x="7814" y="8633"/>
                  <a:pt x="7665" y="8756"/>
                </a:cubicBezTo>
                <a:cubicBezTo>
                  <a:pt x="7547" y="8854"/>
                  <a:pt x="7410" y="8931"/>
                  <a:pt x="7293" y="9029"/>
                </a:cubicBezTo>
                <a:cubicBezTo>
                  <a:pt x="7201" y="9106"/>
                  <a:pt x="7111" y="9202"/>
                  <a:pt x="7045" y="9302"/>
                </a:cubicBezTo>
                <a:cubicBezTo>
                  <a:pt x="6971" y="9414"/>
                  <a:pt x="6944" y="9537"/>
                  <a:pt x="6970" y="9674"/>
                </a:cubicBezTo>
                <a:cubicBezTo>
                  <a:pt x="6995" y="9803"/>
                  <a:pt x="7099" y="9943"/>
                  <a:pt x="7243" y="9947"/>
                </a:cubicBezTo>
                <a:cubicBezTo>
                  <a:pt x="7440" y="9952"/>
                  <a:pt x="7576" y="9794"/>
                  <a:pt x="7714" y="9674"/>
                </a:cubicBezTo>
                <a:cubicBezTo>
                  <a:pt x="7856" y="9550"/>
                  <a:pt x="8013" y="9400"/>
                  <a:pt x="8136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4098960" y="4537080"/>
            <a:ext cx="2205000" cy="857160"/>
          </a:xfrm>
          <a:custGeom>
            <a:avLst/>
            <a:gdLst/>
            <a:ahLst/>
            <a:rect l="l" t="t" r="r" b="b"/>
            <a:pathLst>
              <a:path w="6128" h="2382">
                <a:moveTo>
                  <a:pt x="16842" y="14982"/>
                </a:moveTo>
                <a:cubicBezTo>
                  <a:pt x="16761" y="14954"/>
                  <a:pt x="16948" y="14910"/>
                  <a:pt x="16966" y="14908"/>
                </a:cubicBezTo>
                <a:cubicBezTo>
                  <a:pt x="17132" y="14890"/>
                  <a:pt x="17624" y="14916"/>
                  <a:pt x="17462" y="14957"/>
                </a:cubicBezTo>
                <a:cubicBezTo>
                  <a:pt x="17446" y="14957"/>
                  <a:pt x="17429" y="14957"/>
                  <a:pt x="17413" y="14957"/>
                </a:cubicBezTo>
                <a:cubicBezTo>
                  <a:pt x="17255" y="14951"/>
                  <a:pt x="17100" y="14932"/>
                  <a:pt x="16942" y="14932"/>
                </a:cubicBezTo>
                <a:cubicBezTo>
                  <a:pt x="17141" y="14989"/>
                  <a:pt x="17320" y="14939"/>
                  <a:pt x="17512" y="14957"/>
                </a:cubicBezTo>
                <a:cubicBezTo>
                  <a:pt x="17512" y="14965"/>
                  <a:pt x="17512" y="14974"/>
                  <a:pt x="17512" y="14982"/>
                </a:cubicBezTo>
              </a:path>
              <a:path w="6128" h="2382">
                <a:moveTo>
                  <a:pt x="16818" y="13717"/>
                </a:moveTo>
                <a:cubicBezTo>
                  <a:pt x="16986" y="13717"/>
                  <a:pt x="17146" y="13703"/>
                  <a:pt x="17314" y="13692"/>
                </a:cubicBezTo>
                <a:cubicBezTo>
                  <a:pt x="17372" y="13692"/>
                  <a:pt x="17380" y="13692"/>
                  <a:pt x="17413" y="13692"/>
                </a:cubicBezTo>
                <a:cubicBezTo>
                  <a:pt x="17263" y="13709"/>
                  <a:pt x="17114" y="13736"/>
                  <a:pt x="16966" y="13767"/>
                </a:cubicBezTo>
                <a:cubicBezTo>
                  <a:pt x="16889" y="13767"/>
                  <a:pt x="17299" y="13720"/>
                  <a:pt x="17314" y="13717"/>
                </a:cubicBezTo>
                <a:cubicBezTo>
                  <a:pt x="17374" y="13697"/>
                  <a:pt x="17409" y="13678"/>
                  <a:pt x="17363" y="13717"/>
                </a:cubicBezTo>
              </a:path>
              <a:path w="6128" h="2382">
                <a:moveTo>
                  <a:pt x="11385" y="12774"/>
                </a:moveTo>
                <a:cubicBezTo>
                  <a:pt x="11437" y="12774"/>
                  <a:pt x="11457" y="12777"/>
                  <a:pt x="11509" y="12774"/>
                </a:cubicBezTo>
                <a:cubicBezTo>
                  <a:pt x="11634" y="12766"/>
                  <a:pt x="11758" y="12759"/>
                  <a:pt x="11881" y="12750"/>
                </a:cubicBezTo>
                <a:cubicBezTo>
                  <a:pt x="11961" y="12744"/>
                  <a:pt x="12026" y="12730"/>
                  <a:pt x="12105" y="12725"/>
                </a:cubicBezTo>
                <a:cubicBezTo>
                  <a:pt x="12181" y="12720"/>
                  <a:pt x="12320" y="12697"/>
                  <a:pt x="12378" y="12700"/>
                </a:cubicBezTo>
                <a:cubicBezTo>
                  <a:pt x="12467" y="12704"/>
                  <a:pt x="12531" y="12733"/>
                  <a:pt x="12626" y="12725"/>
                </a:cubicBezTo>
                <a:cubicBezTo>
                  <a:pt x="12827" y="12708"/>
                  <a:pt x="13019" y="12654"/>
                  <a:pt x="13221" y="12650"/>
                </a:cubicBezTo>
                <a:cubicBezTo>
                  <a:pt x="13341" y="12648"/>
                  <a:pt x="13448" y="12629"/>
                  <a:pt x="13568" y="12626"/>
                </a:cubicBezTo>
                <a:cubicBezTo>
                  <a:pt x="13697" y="12623"/>
                  <a:pt x="13820" y="12640"/>
                  <a:pt x="13940" y="12650"/>
                </a:cubicBezTo>
                <a:cubicBezTo>
                  <a:pt x="14057" y="12659"/>
                  <a:pt x="14173" y="12692"/>
                  <a:pt x="14288" y="12700"/>
                </a:cubicBezTo>
                <a:cubicBezTo>
                  <a:pt x="14416" y="12709"/>
                  <a:pt x="14541" y="12682"/>
                  <a:pt x="14660" y="12675"/>
                </a:cubicBezTo>
                <a:cubicBezTo>
                  <a:pt x="15006" y="12654"/>
                  <a:pt x="15360" y="12712"/>
                  <a:pt x="15701" y="12700"/>
                </a:cubicBezTo>
                <a:cubicBezTo>
                  <a:pt x="15781" y="12697"/>
                  <a:pt x="15871" y="12688"/>
                  <a:pt x="15949" y="12675"/>
                </a:cubicBezTo>
                <a:cubicBezTo>
                  <a:pt x="16066" y="12655"/>
                  <a:pt x="16181" y="12646"/>
                  <a:pt x="16297" y="12626"/>
                </a:cubicBezTo>
                <a:cubicBezTo>
                  <a:pt x="16339" y="12619"/>
                  <a:pt x="16408" y="12599"/>
                  <a:pt x="16446" y="12601"/>
                </a:cubicBezTo>
                <a:cubicBezTo>
                  <a:pt x="16485" y="12603"/>
                  <a:pt x="16459" y="12626"/>
                  <a:pt x="16520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009960" y="3438360"/>
            <a:ext cx="169920" cy="21456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8359" y="9550"/>
                </a:moveTo>
                <a:cubicBezTo>
                  <a:pt x="8371" y="9631"/>
                  <a:pt x="8438" y="9690"/>
                  <a:pt x="8458" y="9773"/>
                </a:cubicBezTo>
                <a:cubicBezTo>
                  <a:pt x="8458" y="9815"/>
                  <a:pt x="8450" y="9831"/>
                  <a:pt x="8483" y="9823"/>
                </a:cubicBezTo>
              </a:path>
              <a:path w="472" h="596">
                <a:moveTo>
                  <a:pt x="8806" y="9649"/>
                </a:moveTo>
                <a:cubicBezTo>
                  <a:pt x="8772" y="9659"/>
                  <a:pt x="8652" y="9693"/>
                  <a:pt x="8632" y="9723"/>
                </a:cubicBezTo>
                <a:cubicBezTo>
                  <a:pt x="8599" y="9772"/>
                  <a:pt x="8618" y="9839"/>
                  <a:pt x="8607" y="9897"/>
                </a:cubicBezTo>
                <a:cubicBezTo>
                  <a:pt x="8684" y="9871"/>
                  <a:pt x="8719" y="9847"/>
                  <a:pt x="8806" y="9847"/>
                </a:cubicBezTo>
                <a:cubicBezTo>
                  <a:pt x="8821" y="9982"/>
                  <a:pt x="8829" y="10137"/>
                  <a:pt x="8632" y="10145"/>
                </a:cubicBezTo>
                <a:cubicBezTo>
                  <a:pt x="8592" y="10125"/>
                  <a:pt x="8575" y="10127"/>
                  <a:pt x="8582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62000" y="3429000"/>
            <a:ext cx="2009880" cy="3054240"/>
          </a:xfrm>
          <a:custGeom>
            <a:avLst/>
            <a:gdLst/>
            <a:ahLst/>
            <a:rect l="l" t="t" r="r" b="b"/>
            <a:pathLst>
              <a:path w="5582" h="8484">
                <a:moveTo>
                  <a:pt x="8533" y="9525"/>
                </a:moveTo>
                <a:cubicBezTo>
                  <a:pt x="8457" y="9627"/>
                  <a:pt x="8412" y="9732"/>
                  <a:pt x="8359" y="9847"/>
                </a:cubicBezTo>
              </a:path>
              <a:path w="5582" h="8484">
                <a:moveTo>
                  <a:pt x="3051" y="17909"/>
                </a:moveTo>
                <a:cubicBezTo>
                  <a:pt x="3021" y="17969"/>
                  <a:pt x="3004" y="17992"/>
                  <a:pt x="2952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do you solve a proportion?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lets look at the ‘real’ way to solve a proportio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ss multip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each side by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3962520" y="2209680"/>
          <a:ext cx="10033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09680"/>
                    <a:ext cx="1003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5"/>
          <p:cNvGraphicFramePr/>
          <p:nvPr/>
        </p:nvGraphicFramePr>
        <p:xfrm>
          <a:off x="3809880" y="3429000"/>
          <a:ext cx="156240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429000"/>
                    <a:ext cx="1562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3505320" y="4267080"/>
          <a:ext cx="129528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267080"/>
                    <a:ext cx="1295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4724280" y="4800600"/>
          <a:ext cx="142236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4800600"/>
                    <a:ext cx="1422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4419720" y="6095880"/>
          <a:ext cx="133344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6095880"/>
                    <a:ext cx="1333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857760" y="2108160"/>
            <a:ext cx="1206360" cy="1133640"/>
          </a:xfrm>
          <a:custGeom>
            <a:avLst/>
            <a:gdLst/>
            <a:ahLst/>
            <a:rect l="l" t="t" r="r" b="b"/>
            <a:pathLst>
              <a:path w="3349" h="3151">
                <a:moveTo>
                  <a:pt x="12402" y="6970"/>
                </a:moveTo>
                <a:cubicBezTo>
                  <a:pt x="12387" y="6898"/>
                  <a:pt x="12388" y="6844"/>
                  <a:pt x="12353" y="6772"/>
                </a:cubicBezTo>
                <a:cubicBezTo>
                  <a:pt x="12317" y="6699"/>
                  <a:pt x="12277" y="6590"/>
                  <a:pt x="12229" y="6524"/>
                </a:cubicBezTo>
                <a:cubicBezTo>
                  <a:pt x="12151" y="6417"/>
                  <a:pt x="12017" y="6296"/>
                  <a:pt x="11906" y="6226"/>
                </a:cubicBezTo>
                <a:cubicBezTo>
                  <a:pt x="11821" y="6173"/>
                  <a:pt x="11726" y="6116"/>
                  <a:pt x="11633" y="6077"/>
                </a:cubicBezTo>
                <a:cubicBezTo>
                  <a:pt x="11470" y="6009"/>
                  <a:pt x="11371" y="6037"/>
                  <a:pt x="11212" y="6077"/>
                </a:cubicBezTo>
                <a:cubicBezTo>
                  <a:pt x="11061" y="6115"/>
                  <a:pt x="10933" y="6167"/>
                  <a:pt x="10815" y="6276"/>
                </a:cubicBezTo>
                <a:cubicBezTo>
                  <a:pt x="10730" y="6355"/>
                  <a:pt x="10722" y="6440"/>
                  <a:pt x="10716" y="6548"/>
                </a:cubicBezTo>
                <a:cubicBezTo>
                  <a:pt x="10709" y="6675"/>
                  <a:pt x="10776" y="6828"/>
                  <a:pt x="10864" y="6921"/>
                </a:cubicBezTo>
                <a:cubicBezTo>
                  <a:pt x="10986" y="7051"/>
                  <a:pt x="11172" y="7156"/>
                  <a:pt x="11311" y="7268"/>
                </a:cubicBezTo>
                <a:cubicBezTo>
                  <a:pt x="11454" y="7384"/>
                  <a:pt x="11610" y="7502"/>
                  <a:pt x="11733" y="7640"/>
                </a:cubicBezTo>
                <a:cubicBezTo>
                  <a:pt x="11804" y="7720"/>
                  <a:pt x="11890" y="7822"/>
                  <a:pt x="11956" y="7888"/>
                </a:cubicBezTo>
                <a:cubicBezTo>
                  <a:pt x="12032" y="7964"/>
                  <a:pt x="12119" y="8047"/>
                  <a:pt x="12204" y="8111"/>
                </a:cubicBezTo>
                <a:cubicBezTo>
                  <a:pt x="12369" y="8234"/>
                  <a:pt x="12544" y="8345"/>
                  <a:pt x="12700" y="8483"/>
                </a:cubicBezTo>
                <a:cubicBezTo>
                  <a:pt x="12776" y="8551"/>
                  <a:pt x="12844" y="8617"/>
                  <a:pt x="12923" y="8682"/>
                </a:cubicBezTo>
                <a:cubicBezTo>
                  <a:pt x="13014" y="8756"/>
                  <a:pt x="13107" y="8840"/>
                  <a:pt x="13221" y="8880"/>
                </a:cubicBezTo>
                <a:cubicBezTo>
                  <a:pt x="13355" y="8927"/>
                  <a:pt x="13563" y="8923"/>
                  <a:pt x="13692" y="8855"/>
                </a:cubicBezTo>
                <a:cubicBezTo>
                  <a:pt x="13768" y="8815"/>
                  <a:pt x="13937" y="8727"/>
                  <a:pt x="13990" y="8657"/>
                </a:cubicBezTo>
                <a:cubicBezTo>
                  <a:pt x="14062" y="8562"/>
                  <a:pt x="14082" y="8446"/>
                  <a:pt x="14039" y="8334"/>
                </a:cubicBezTo>
                <a:cubicBezTo>
                  <a:pt x="14004" y="8243"/>
                  <a:pt x="13933" y="8186"/>
                  <a:pt x="13866" y="8111"/>
                </a:cubicBezTo>
                <a:cubicBezTo>
                  <a:pt x="13800" y="8036"/>
                  <a:pt x="13721" y="8002"/>
                  <a:pt x="13643" y="7938"/>
                </a:cubicBezTo>
                <a:cubicBezTo>
                  <a:pt x="13540" y="7853"/>
                  <a:pt x="13455" y="7740"/>
                  <a:pt x="13370" y="7640"/>
                </a:cubicBezTo>
                <a:cubicBezTo>
                  <a:pt x="13289" y="7545"/>
                  <a:pt x="13223" y="7469"/>
                  <a:pt x="13122" y="7392"/>
                </a:cubicBezTo>
                <a:cubicBezTo>
                  <a:pt x="13044" y="7332"/>
                  <a:pt x="12965" y="7291"/>
                  <a:pt x="12898" y="7218"/>
                </a:cubicBezTo>
                <a:cubicBezTo>
                  <a:pt x="12827" y="7140"/>
                  <a:pt x="12746" y="7052"/>
                  <a:pt x="12675" y="6970"/>
                </a:cubicBezTo>
                <a:cubicBezTo>
                  <a:pt x="12595" y="6878"/>
                  <a:pt x="12514" y="6805"/>
                  <a:pt x="12427" y="6722"/>
                </a:cubicBezTo>
                <a:cubicBezTo>
                  <a:pt x="12320" y="6621"/>
                  <a:pt x="12227" y="6597"/>
                  <a:pt x="12105" y="6548"/>
                </a:cubicBezTo>
                <a:cubicBezTo>
                  <a:pt x="12088" y="6540"/>
                  <a:pt x="12072" y="6532"/>
                  <a:pt x="12055" y="6524"/>
                </a:cubicBezTo>
              </a:path>
              <a:path w="3349" h="3151">
                <a:moveTo>
                  <a:pt x="11708" y="7441"/>
                </a:moveTo>
                <a:cubicBezTo>
                  <a:pt x="11621" y="7494"/>
                  <a:pt x="11519" y="7541"/>
                  <a:pt x="11435" y="7615"/>
                </a:cubicBezTo>
                <a:cubicBezTo>
                  <a:pt x="11281" y="7752"/>
                  <a:pt x="11156" y="7915"/>
                  <a:pt x="11013" y="8062"/>
                </a:cubicBezTo>
                <a:cubicBezTo>
                  <a:pt x="10905" y="8173"/>
                  <a:pt x="10743" y="8321"/>
                  <a:pt x="10716" y="8483"/>
                </a:cubicBezTo>
                <a:cubicBezTo>
                  <a:pt x="10698" y="8594"/>
                  <a:pt x="10689" y="8791"/>
                  <a:pt x="10765" y="8880"/>
                </a:cubicBezTo>
                <a:cubicBezTo>
                  <a:pt x="10871" y="9003"/>
                  <a:pt x="11014" y="9051"/>
                  <a:pt x="11187" y="9004"/>
                </a:cubicBezTo>
                <a:cubicBezTo>
                  <a:pt x="11401" y="8946"/>
                  <a:pt x="11579" y="8831"/>
                  <a:pt x="11757" y="8706"/>
                </a:cubicBezTo>
                <a:cubicBezTo>
                  <a:pt x="11954" y="8568"/>
                  <a:pt x="12122" y="8417"/>
                  <a:pt x="12303" y="8260"/>
                </a:cubicBezTo>
                <a:cubicBezTo>
                  <a:pt x="12467" y="8117"/>
                  <a:pt x="12599" y="7989"/>
                  <a:pt x="12725" y="7813"/>
                </a:cubicBezTo>
                <a:cubicBezTo>
                  <a:pt x="12823" y="7676"/>
                  <a:pt x="12934" y="7541"/>
                  <a:pt x="13047" y="7417"/>
                </a:cubicBezTo>
                <a:cubicBezTo>
                  <a:pt x="13110" y="7348"/>
                  <a:pt x="13212" y="7291"/>
                  <a:pt x="13271" y="7218"/>
                </a:cubicBezTo>
                <a:cubicBezTo>
                  <a:pt x="13374" y="7090"/>
                  <a:pt x="13496" y="6963"/>
                  <a:pt x="13593" y="6821"/>
                </a:cubicBezTo>
                <a:cubicBezTo>
                  <a:pt x="13657" y="6726"/>
                  <a:pt x="13715" y="6626"/>
                  <a:pt x="13767" y="6524"/>
                </a:cubicBezTo>
                <a:cubicBezTo>
                  <a:pt x="13845" y="6372"/>
                  <a:pt x="13910" y="6252"/>
                  <a:pt x="13891" y="6077"/>
                </a:cubicBezTo>
                <a:cubicBezTo>
                  <a:pt x="13872" y="5898"/>
                  <a:pt x="13808" y="5884"/>
                  <a:pt x="13643" y="5854"/>
                </a:cubicBezTo>
                <a:cubicBezTo>
                  <a:pt x="13451" y="5820"/>
                  <a:pt x="13229" y="5964"/>
                  <a:pt x="13072" y="6052"/>
                </a:cubicBezTo>
                <a:cubicBezTo>
                  <a:pt x="12819" y="6194"/>
                  <a:pt x="12603" y="6366"/>
                  <a:pt x="12427" y="6598"/>
                </a:cubicBezTo>
                <a:cubicBezTo>
                  <a:pt x="12298" y="6768"/>
                  <a:pt x="12191" y="6962"/>
                  <a:pt x="12080" y="7144"/>
                </a:cubicBezTo>
                <a:cubicBezTo>
                  <a:pt x="12050" y="7194"/>
                  <a:pt x="12029" y="7247"/>
                  <a:pt x="12005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633920" y="4902120"/>
            <a:ext cx="287280" cy="741600"/>
          </a:xfrm>
          <a:custGeom>
            <a:avLst/>
            <a:gdLst/>
            <a:ahLst/>
            <a:rect l="l" t="t" r="r" b="b"/>
            <a:pathLst>
              <a:path w="794" h="2060">
                <a:moveTo>
                  <a:pt x="13271" y="15032"/>
                </a:moveTo>
                <a:cubicBezTo>
                  <a:pt x="13248" y="15009"/>
                  <a:pt x="13244" y="15001"/>
                  <a:pt x="13221" y="15007"/>
                </a:cubicBezTo>
                <a:cubicBezTo>
                  <a:pt x="13221" y="14921"/>
                  <a:pt x="13294" y="14905"/>
                  <a:pt x="13370" y="14883"/>
                </a:cubicBezTo>
                <a:cubicBezTo>
                  <a:pt x="13398" y="14883"/>
                  <a:pt x="13409" y="14885"/>
                  <a:pt x="13419" y="14908"/>
                </a:cubicBezTo>
                <a:cubicBezTo>
                  <a:pt x="13456" y="15090"/>
                  <a:pt x="13373" y="15118"/>
                  <a:pt x="13246" y="15230"/>
                </a:cubicBezTo>
                <a:cubicBezTo>
                  <a:pt x="13135" y="15329"/>
                  <a:pt x="12976" y="15376"/>
                  <a:pt x="12874" y="15478"/>
                </a:cubicBezTo>
                <a:cubicBezTo>
                  <a:pt x="12874" y="15486"/>
                  <a:pt x="12874" y="15495"/>
                  <a:pt x="12874" y="15503"/>
                </a:cubicBezTo>
                <a:cubicBezTo>
                  <a:pt x="13028" y="15452"/>
                  <a:pt x="13155" y="15389"/>
                  <a:pt x="13320" y="15379"/>
                </a:cubicBezTo>
                <a:cubicBezTo>
                  <a:pt x="13345" y="15379"/>
                  <a:pt x="13353" y="15379"/>
                  <a:pt x="13370" y="15379"/>
                </a:cubicBezTo>
              </a:path>
              <a:path w="794" h="2060">
                <a:moveTo>
                  <a:pt x="13667" y="13643"/>
                </a:moveTo>
                <a:cubicBezTo>
                  <a:pt x="13602" y="13708"/>
                  <a:pt x="13594" y="13753"/>
                  <a:pt x="13568" y="13841"/>
                </a:cubicBezTo>
                <a:cubicBezTo>
                  <a:pt x="13480" y="14137"/>
                  <a:pt x="13394" y="14434"/>
                  <a:pt x="13320" y="14734"/>
                </a:cubicBezTo>
                <a:cubicBezTo>
                  <a:pt x="13257" y="14989"/>
                  <a:pt x="13137" y="15217"/>
                  <a:pt x="13022" y="15453"/>
                </a:cubicBezTo>
                <a:cubicBezTo>
                  <a:pt x="12985" y="15528"/>
                  <a:pt x="12898" y="15568"/>
                  <a:pt x="12898" y="15652"/>
                </a:cubicBezTo>
                <a:cubicBezTo>
                  <a:pt x="12898" y="15677"/>
                  <a:pt x="12898" y="15685"/>
                  <a:pt x="12923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we know the real way to solve proportions, lets make it easier for ourselves.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look at the same proportio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y the numbers that are diagonal from each 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de your product by the number across from the l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, d = 13.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137360" y="1752480"/>
          <a:ext cx="10033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37360" y="1752480"/>
                    <a:ext cx="1003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7543800" y="3124080"/>
          <a:ext cx="69840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124080"/>
                    <a:ext cx="698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7543800" y="4038480"/>
          <a:ext cx="10033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4038480"/>
                    <a:ext cx="1003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000920" y="1697040"/>
            <a:ext cx="1241280" cy="1089000"/>
          </a:xfrm>
          <a:custGeom>
            <a:avLst/>
            <a:gdLst/>
            <a:ahLst/>
            <a:rect l="l" t="t" r="r" b="b"/>
            <a:pathLst>
              <a:path w="3449" h="3027">
                <a:moveTo>
                  <a:pt x="19993" y="7665"/>
                </a:moveTo>
                <a:cubicBezTo>
                  <a:pt x="20195" y="7564"/>
                  <a:pt x="20396" y="7461"/>
                  <a:pt x="20588" y="7342"/>
                </a:cubicBezTo>
                <a:cubicBezTo>
                  <a:pt x="20770" y="7229"/>
                  <a:pt x="20941" y="7102"/>
                  <a:pt x="21109" y="6970"/>
                </a:cubicBezTo>
                <a:cubicBezTo>
                  <a:pt x="21239" y="6868"/>
                  <a:pt x="21380" y="6772"/>
                  <a:pt x="21506" y="6672"/>
                </a:cubicBezTo>
                <a:cubicBezTo>
                  <a:pt x="21611" y="6589"/>
                  <a:pt x="21719" y="6502"/>
                  <a:pt x="21828" y="6424"/>
                </a:cubicBezTo>
                <a:cubicBezTo>
                  <a:pt x="21918" y="6359"/>
                  <a:pt x="21999" y="6299"/>
                  <a:pt x="22076" y="6226"/>
                </a:cubicBezTo>
                <a:cubicBezTo>
                  <a:pt x="22194" y="6114"/>
                  <a:pt x="22305" y="5986"/>
                  <a:pt x="22423" y="5879"/>
                </a:cubicBezTo>
                <a:cubicBezTo>
                  <a:pt x="22549" y="5764"/>
                  <a:pt x="22643" y="5645"/>
                  <a:pt x="22746" y="5507"/>
                </a:cubicBezTo>
                <a:cubicBezTo>
                  <a:pt x="22828" y="5397"/>
                  <a:pt x="22921" y="5231"/>
                  <a:pt x="22895" y="5085"/>
                </a:cubicBezTo>
                <a:cubicBezTo>
                  <a:pt x="22871" y="4950"/>
                  <a:pt x="22776" y="4876"/>
                  <a:pt x="22671" y="4812"/>
                </a:cubicBezTo>
                <a:cubicBezTo>
                  <a:pt x="22524" y="4721"/>
                  <a:pt x="22341" y="4698"/>
                  <a:pt x="22175" y="4738"/>
                </a:cubicBezTo>
                <a:cubicBezTo>
                  <a:pt x="21976" y="4786"/>
                  <a:pt x="21816" y="4918"/>
                  <a:pt x="21654" y="5035"/>
                </a:cubicBezTo>
                <a:cubicBezTo>
                  <a:pt x="21516" y="5135"/>
                  <a:pt x="21326" y="5261"/>
                  <a:pt x="21233" y="5407"/>
                </a:cubicBezTo>
                <a:cubicBezTo>
                  <a:pt x="21122" y="5581"/>
                  <a:pt x="21074" y="5794"/>
                  <a:pt x="20985" y="5978"/>
                </a:cubicBezTo>
                <a:cubicBezTo>
                  <a:pt x="20871" y="6215"/>
                  <a:pt x="20751" y="6348"/>
                  <a:pt x="20563" y="6524"/>
                </a:cubicBezTo>
                <a:cubicBezTo>
                  <a:pt x="20416" y="6662"/>
                  <a:pt x="20253" y="6772"/>
                  <a:pt x="20092" y="6896"/>
                </a:cubicBezTo>
                <a:cubicBezTo>
                  <a:pt x="19941" y="7013"/>
                  <a:pt x="19805" y="7133"/>
                  <a:pt x="19670" y="7268"/>
                </a:cubicBezTo>
                <a:cubicBezTo>
                  <a:pt x="19578" y="7360"/>
                  <a:pt x="19523" y="7448"/>
                  <a:pt x="19472" y="7565"/>
                </a:cubicBezTo>
                <a:cubicBezTo>
                  <a:pt x="19449" y="7618"/>
                  <a:pt x="19461" y="7640"/>
                  <a:pt x="19447" y="7689"/>
                </a:cubicBezTo>
                <a:cubicBezTo>
                  <a:pt x="19698" y="7727"/>
                  <a:pt x="19827" y="7748"/>
                  <a:pt x="20067" y="7615"/>
                </a:cubicBezTo>
                <a:cubicBezTo>
                  <a:pt x="20319" y="7476"/>
                  <a:pt x="20509" y="7266"/>
                  <a:pt x="20712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572680" y="3197160"/>
            <a:ext cx="384120" cy="285840"/>
          </a:xfrm>
          <a:custGeom>
            <a:avLst/>
            <a:gdLst/>
            <a:ahLst/>
            <a:rect l="l" t="t" r="r" b="b"/>
            <a:pathLst>
              <a:path w="1068" h="795">
                <a:moveTo>
                  <a:pt x="23912" y="8979"/>
                </a:moveTo>
                <a:cubicBezTo>
                  <a:pt x="23939" y="9059"/>
                  <a:pt x="24045" y="8956"/>
                  <a:pt x="24085" y="8930"/>
                </a:cubicBezTo>
                <a:cubicBezTo>
                  <a:pt x="24157" y="8882"/>
                  <a:pt x="24178" y="8864"/>
                  <a:pt x="24234" y="8905"/>
                </a:cubicBezTo>
                <a:cubicBezTo>
                  <a:pt x="24245" y="9165"/>
                  <a:pt x="24176" y="9393"/>
                  <a:pt x="23912" y="9525"/>
                </a:cubicBezTo>
                <a:cubicBezTo>
                  <a:pt x="23879" y="9525"/>
                  <a:pt x="23845" y="9525"/>
                  <a:pt x="23812" y="9525"/>
                </a:cubicBezTo>
                <a:cubicBezTo>
                  <a:pt x="23822" y="9364"/>
                  <a:pt x="23865" y="9220"/>
                  <a:pt x="24085" y="9302"/>
                </a:cubicBezTo>
                <a:cubicBezTo>
                  <a:pt x="24216" y="9351"/>
                  <a:pt x="24180" y="9538"/>
                  <a:pt x="24259" y="9401"/>
                </a:cubicBezTo>
              </a:path>
              <a:path w="1068" h="795">
                <a:moveTo>
                  <a:pt x="24358" y="8979"/>
                </a:moveTo>
                <a:cubicBezTo>
                  <a:pt x="24469" y="8931"/>
                  <a:pt x="24626" y="8954"/>
                  <a:pt x="24755" y="8954"/>
                </a:cubicBezTo>
                <a:cubicBezTo>
                  <a:pt x="24813" y="8954"/>
                  <a:pt x="24821" y="8954"/>
                  <a:pt x="24854" y="8954"/>
                </a:cubicBezTo>
                <a:cubicBezTo>
                  <a:pt x="24884" y="9044"/>
                  <a:pt x="24873" y="9095"/>
                  <a:pt x="24829" y="9227"/>
                </a:cubicBezTo>
                <a:cubicBezTo>
                  <a:pt x="24796" y="9325"/>
                  <a:pt x="24639" y="9611"/>
                  <a:pt x="24681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the Proportion: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57200" y="1752480"/>
          <a:ext cx="171468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17146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4343400" y="1752480"/>
          <a:ext cx="17524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752480"/>
                    <a:ext cx="17524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685800" y="4267080"/>
          <a:ext cx="15368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267080"/>
                    <a:ext cx="1536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7"/>
          <p:cNvGraphicFramePr/>
          <p:nvPr/>
        </p:nvGraphicFramePr>
        <p:xfrm>
          <a:off x="4495680" y="4191120"/>
          <a:ext cx="2019600" cy="95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191120"/>
                    <a:ext cx="2019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28800" y="2840040"/>
            <a:ext cx="1339560" cy="1187280"/>
          </a:xfrm>
          <a:custGeom>
            <a:avLst/>
            <a:gdLst/>
            <a:ahLst/>
            <a:rect l="l" t="t" r="r" b="b"/>
            <a:pathLst>
              <a:path w="3721" h="3300">
                <a:moveTo>
                  <a:pt x="2629" y="7938"/>
                </a:moveTo>
                <a:cubicBezTo>
                  <a:pt x="2629" y="8114"/>
                  <a:pt x="2597" y="8283"/>
                  <a:pt x="2580" y="8458"/>
                </a:cubicBezTo>
                <a:cubicBezTo>
                  <a:pt x="2580" y="8536"/>
                  <a:pt x="2590" y="8527"/>
                  <a:pt x="2629" y="8384"/>
                </a:cubicBezTo>
              </a:path>
              <a:path w="3721" h="3300">
                <a:moveTo>
                  <a:pt x="2952" y="7987"/>
                </a:moveTo>
                <a:cubicBezTo>
                  <a:pt x="3132" y="7960"/>
                  <a:pt x="3453" y="7985"/>
                  <a:pt x="3225" y="8285"/>
                </a:cubicBezTo>
                <a:cubicBezTo>
                  <a:pt x="3129" y="8411"/>
                  <a:pt x="2981" y="8418"/>
                  <a:pt x="2853" y="8409"/>
                </a:cubicBezTo>
                <a:cubicBezTo>
                  <a:pt x="2829" y="8266"/>
                  <a:pt x="2861" y="8216"/>
                  <a:pt x="3026" y="8235"/>
                </a:cubicBezTo>
                <a:cubicBezTo>
                  <a:pt x="3139" y="8248"/>
                  <a:pt x="3147" y="8332"/>
                  <a:pt x="3200" y="8359"/>
                </a:cubicBezTo>
                <a:cubicBezTo>
                  <a:pt x="3208" y="8359"/>
                  <a:pt x="3217" y="8359"/>
                  <a:pt x="3225" y="8359"/>
                </a:cubicBezTo>
              </a:path>
              <a:path w="3721" h="3300">
                <a:moveTo>
                  <a:pt x="3770" y="8161"/>
                </a:moveTo>
                <a:cubicBezTo>
                  <a:pt x="3817" y="8217"/>
                  <a:pt x="3859" y="8272"/>
                  <a:pt x="3894" y="8334"/>
                </a:cubicBezTo>
              </a:path>
              <a:path w="3721" h="3300">
                <a:moveTo>
                  <a:pt x="3994" y="8012"/>
                </a:moveTo>
                <a:cubicBezTo>
                  <a:pt x="3918" y="8151"/>
                  <a:pt x="3852" y="8299"/>
                  <a:pt x="3770" y="8434"/>
                </a:cubicBezTo>
                <a:cubicBezTo>
                  <a:pt x="3762" y="8442"/>
                  <a:pt x="3754" y="8450"/>
                  <a:pt x="3746" y="8458"/>
                </a:cubicBezTo>
              </a:path>
              <a:path w="3721" h="3300">
                <a:moveTo>
                  <a:pt x="4266" y="7962"/>
                </a:moveTo>
                <a:cubicBezTo>
                  <a:pt x="4286" y="7903"/>
                  <a:pt x="4374" y="7899"/>
                  <a:pt x="4440" y="7888"/>
                </a:cubicBezTo>
                <a:cubicBezTo>
                  <a:pt x="4466" y="8002"/>
                  <a:pt x="4428" y="8024"/>
                  <a:pt x="4341" y="8111"/>
                </a:cubicBezTo>
                <a:cubicBezTo>
                  <a:pt x="4277" y="8111"/>
                  <a:pt x="4473" y="8079"/>
                  <a:pt x="4490" y="8086"/>
                </a:cubicBezTo>
                <a:cubicBezTo>
                  <a:pt x="4682" y="8159"/>
                  <a:pt x="4411" y="8294"/>
                  <a:pt x="4366" y="8310"/>
                </a:cubicBezTo>
                <a:cubicBezTo>
                  <a:pt x="4277" y="8341"/>
                  <a:pt x="4272" y="8350"/>
                  <a:pt x="4217" y="8310"/>
                </a:cubicBezTo>
              </a:path>
              <a:path w="3721" h="3300">
                <a:moveTo>
                  <a:pt x="3448" y="9178"/>
                </a:moveTo>
                <a:cubicBezTo>
                  <a:pt x="3531" y="9094"/>
                  <a:pt x="3580" y="9070"/>
                  <a:pt x="3696" y="9054"/>
                </a:cubicBezTo>
                <a:cubicBezTo>
                  <a:pt x="3704" y="9054"/>
                  <a:pt x="3713" y="9054"/>
                  <a:pt x="3721" y="9054"/>
                </a:cubicBezTo>
                <a:cubicBezTo>
                  <a:pt x="3691" y="9221"/>
                  <a:pt x="3664" y="9310"/>
                  <a:pt x="3497" y="9351"/>
                </a:cubicBezTo>
                <a:cubicBezTo>
                  <a:pt x="3570" y="9333"/>
                  <a:pt x="3787" y="9246"/>
                  <a:pt x="3770" y="9426"/>
                </a:cubicBezTo>
                <a:cubicBezTo>
                  <a:pt x="3754" y="9599"/>
                  <a:pt x="3451" y="9622"/>
                  <a:pt x="3349" y="9525"/>
                </a:cubicBezTo>
                <a:cubicBezTo>
                  <a:pt x="3349" y="9508"/>
                  <a:pt x="3349" y="9492"/>
                  <a:pt x="3349" y="9475"/>
                </a:cubicBezTo>
              </a:path>
              <a:path w="3721" h="3300">
                <a:moveTo>
                  <a:pt x="4142" y="9029"/>
                </a:moveTo>
                <a:cubicBezTo>
                  <a:pt x="4096" y="8997"/>
                  <a:pt x="4062" y="9166"/>
                  <a:pt x="4043" y="9227"/>
                </a:cubicBezTo>
                <a:cubicBezTo>
                  <a:pt x="4030" y="9267"/>
                  <a:pt x="3943" y="9492"/>
                  <a:pt x="4018" y="9525"/>
                </a:cubicBezTo>
                <a:cubicBezTo>
                  <a:pt x="4136" y="9578"/>
                  <a:pt x="4283" y="9536"/>
                  <a:pt x="4390" y="9475"/>
                </a:cubicBezTo>
                <a:cubicBezTo>
                  <a:pt x="4455" y="9438"/>
                  <a:pt x="4468" y="9409"/>
                  <a:pt x="4490" y="9351"/>
                </a:cubicBezTo>
                <a:cubicBezTo>
                  <a:pt x="4412" y="9284"/>
                  <a:pt x="4358" y="9235"/>
                  <a:pt x="4266" y="9327"/>
                </a:cubicBezTo>
                <a:cubicBezTo>
                  <a:pt x="4223" y="9370"/>
                  <a:pt x="4151" y="9492"/>
                  <a:pt x="4217" y="9550"/>
                </a:cubicBezTo>
                <a:cubicBezTo>
                  <a:pt x="4225" y="9550"/>
                  <a:pt x="4234" y="9550"/>
                  <a:pt x="4242" y="9550"/>
                </a:cubicBezTo>
              </a:path>
              <a:path w="3721" h="3300">
                <a:moveTo>
                  <a:pt x="4887" y="9153"/>
                </a:moveTo>
                <a:cubicBezTo>
                  <a:pt x="4955" y="9100"/>
                  <a:pt x="5048" y="9107"/>
                  <a:pt x="5135" y="9103"/>
                </a:cubicBezTo>
                <a:cubicBezTo>
                  <a:pt x="5143" y="9103"/>
                  <a:pt x="5151" y="9103"/>
                  <a:pt x="5159" y="9103"/>
                </a:cubicBezTo>
              </a:path>
              <a:path w="3721" h="3300">
                <a:moveTo>
                  <a:pt x="4837" y="9327"/>
                </a:moveTo>
                <a:cubicBezTo>
                  <a:pt x="4965" y="9327"/>
                  <a:pt x="5062" y="9303"/>
                  <a:pt x="5184" y="9277"/>
                </a:cubicBezTo>
                <a:cubicBezTo>
                  <a:pt x="5192" y="9277"/>
                  <a:pt x="5201" y="9277"/>
                  <a:pt x="5209" y="9277"/>
                </a:cubicBezTo>
              </a:path>
              <a:path w="3721" h="3300">
                <a:moveTo>
                  <a:pt x="5333" y="8756"/>
                </a:moveTo>
                <a:cubicBezTo>
                  <a:pt x="5428" y="8737"/>
                  <a:pt x="5530" y="8715"/>
                  <a:pt x="5631" y="8706"/>
                </a:cubicBezTo>
                <a:cubicBezTo>
                  <a:pt x="5656" y="8706"/>
                  <a:pt x="5680" y="8706"/>
                  <a:pt x="5705" y="8706"/>
                </a:cubicBezTo>
                <a:cubicBezTo>
                  <a:pt x="5705" y="8892"/>
                  <a:pt x="5631" y="9026"/>
                  <a:pt x="5581" y="9203"/>
                </a:cubicBezTo>
                <a:cubicBezTo>
                  <a:pt x="5558" y="9284"/>
                  <a:pt x="5531" y="9339"/>
                  <a:pt x="5556" y="9351"/>
                </a:cubicBezTo>
              </a:path>
              <a:path w="3721" h="3300">
                <a:moveTo>
                  <a:pt x="6152" y="9103"/>
                </a:moveTo>
                <a:cubicBezTo>
                  <a:pt x="6242" y="9052"/>
                  <a:pt x="6271" y="8964"/>
                  <a:pt x="6176" y="8880"/>
                </a:cubicBezTo>
                <a:cubicBezTo>
                  <a:pt x="5981" y="8707"/>
                  <a:pt x="5861" y="9054"/>
                  <a:pt x="5804" y="9178"/>
                </a:cubicBezTo>
                <a:cubicBezTo>
                  <a:pt x="5821" y="9194"/>
                  <a:pt x="5837" y="9211"/>
                  <a:pt x="5854" y="9227"/>
                </a:cubicBezTo>
                <a:cubicBezTo>
                  <a:pt x="6013" y="9161"/>
                  <a:pt x="6036" y="9135"/>
                  <a:pt x="6127" y="8979"/>
                </a:cubicBezTo>
                <a:cubicBezTo>
                  <a:pt x="6185" y="9057"/>
                  <a:pt x="6180" y="9141"/>
                  <a:pt x="6251" y="9227"/>
                </a:cubicBezTo>
                <a:cubicBezTo>
                  <a:pt x="6267" y="9244"/>
                  <a:pt x="6284" y="9260"/>
                  <a:pt x="6300" y="9277"/>
                </a:cubicBezTo>
              </a:path>
              <a:path w="3721" h="3300">
                <a:moveTo>
                  <a:pt x="5209" y="9500"/>
                </a:moveTo>
                <a:cubicBezTo>
                  <a:pt x="5390" y="9439"/>
                  <a:pt x="5655" y="9475"/>
                  <a:pt x="5854" y="9475"/>
                </a:cubicBezTo>
                <a:cubicBezTo>
                  <a:pt x="5986" y="9475"/>
                  <a:pt x="6119" y="9475"/>
                  <a:pt x="6251" y="9475"/>
                </a:cubicBezTo>
              </a:path>
              <a:path w="3721" h="3300">
                <a:moveTo>
                  <a:pt x="5432" y="9699"/>
                </a:moveTo>
                <a:cubicBezTo>
                  <a:pt x="5558" y="9683"/>
                  <a:pt x="5679" y="9647"/>
                  <a:pt x="5804" y="9624"/>
                </a:cubicBezTo>
                <a:cubicBezTo>
                  <a:pt x="5829" y="9624"/>
                  <a:pt x="5837" y="9624"/>
                  <a:pt x="5854" y="9624"/>
                </a:cubicBezTo>
                <a:cubicBezTo>
                  <a:pt x="5854" y="9748"/>
                  <a:pt x="5802" y="9858"/>
                  <a:pt x="5755" y="9971"/>
                </a:cubicBezTo>
                <a:cubicBezTo>
                  <a:pt x="5747" y="9988"/>
                  <a:pt x="5738" y="10004"/>
                  <a:pt x="5730" y="10021"/>
                </a:cubicBezTo>
              </a:path>
              <a:path w="3721" h="3300">
                <a:moveTo>
                  <a:pt x="3398" y="9723"/>
                </a:moveTo>
                <a:cubicBezTo>
                  <a:pt x="3747" y="9716"/>
                  <a:pt x="4095" y="9679"/>
                  <a:pt x="4440" y="9699"/>
                </a:cubicBezTo>
                <a:cubicBezTo>
                  <a:pt x="4465" y="9699"/>
                  <a:pt x="4473" y="9699"/>
                  <a:pt x="4490" y="9699"/>
                </a:cubicBezTo>
              </a:path>
              <a:path w="3721" h="3300">
                <a:moveTo>
                  <a:pt x="3597" y="9996"/>
                </a:moveTo>
                <a:cubicBezTo>
                  <a:pt x="3780" y="9982"/>
                  <a:pt x="3961" y="9953"/>
                  <a:pt x="4142" y="9922"/>
                </a:cubicBezTo>
                <a:cubicBezTo>
                  <a:pt x="4214" y="10017"/>
                  <a:pt x="4074" y="10152"/>
                  <a:pt x="4043" y="10244"/>
                </a:cubicBezTo>
                <a:cubicBezTo>
                  <a:pt x="4015" y="10327"/>
                  <a:pt x="3989" y="10375"/>
                  <a:pt x="4043" y="10393"/>
                </a:cubicBezTo>
              </a:path>
              <a:path w="3721" h="3300">
                <a:moveTo>
                  <a:pt x="5407" y="8458"/>
                </a:moveTo>
                <a:cubicBezTo>
                  <a:pt x="5458" y="8664"/>
                  <a:pt x="5488" y="8881"/>
                  <a:pt x="5507" y="9103"/>
                </a:cubicBezTo>
                <a:cubicBezTo>
                  <a:pt x="5529" y="9363"/>
                  <a:pt x="5568" y="9618"/>
                  <a:pt x="5606" y="9872"/>
                </a:cubicBezTo>
                <a:cubicBezTo>
                  <a:pt x="5606" y="9897"/>
                  <a:pt x="5606" y="9905"/>
                  <a:pt x="5631" y="9897"/>
                </a:cubicBezTo>
              </a:path>
              <a:path w="3721" h="3300">
                <a:moveTo>
                  <a:pt x="6003" y="10716"/>
                </a:moveTo>
                <a:cubicBezTo>
                  <a:pt x="5890" y="10564"/>
                  <a:pt x="5791" y="10609"/>
                  <a:pt x="5705" y="10790"/>
                </a:cubicBezTo>
                <a:cubicBezTo>
                  <a:pt x="5697" y="10831"/>
                  <a:pt x="5688" y="10873"/>
                  <a:pt x="5680" y="10914"/>
                </a:cubicBezTo>
                <a:cubicBezTo>
                  <a:pt x="5697" y="10931"/>
                  <a:pt x="5713" y="10947"/>
                  <a:pt x="5730" y="10964"/>
                </a:cubicBezTo>
                <a:cubicBezTo>
                  <a:pt x="5889" y="10876"/>
                  <a:pt x="5946" y="10774"/>
                  <a:pt x="6052" y="10666"/>
                </a:cubicBezTo>
                <a:cubicBezTo>
                  <a:pt x="6052" y="10789"/>
                  <a:pt x="6108" y="10922"/>
                  <a:pt x="6102" y="11038"/>
                </a:cubicBezTo>
                <a:cubicBezTo>
                  <a:pt x="6094" y="11038"/>
                  <a:pt x="6085" y="11038"/>
                  <a:pt x="6077" y="11038"/>
                </a:cubicBezTo>
              </a:path>
              <a:path w="3721" h="3300">
                <a:moveTo>
                  <a:pt x="5135" y="10641"/>
                </a:moveTo>
                <a:cubicBezTo>
                  <a:pt x="5209" y="10641"/>
                  <a:pt x="5295" y="10637"/>
                  <a:pt x="5333" y="10666"/>
                </a:cubicBezTo>
              </a:path>
              <a:path w="3721" h="3300">
                <a:moveTo>
                  <a:pt x="5085" y="10864"/>
                </a:moveTo>
                <a:cubicBezTo>
                  <a:pt x="5143" y="10864"/>
                  <a:pt x="5201" y="10864"/>
                  <a:pt x="5259" y="10864"/>
                </a:cubicBezTo>
              </a:path>
              <a:path w="3721" h="3300">
                <a:moveTo>
                  <a:pt x="3473" y="10691"/>
                </a:moveTo>
                <a:cubicBezTo>
                  <a:pt x="3408" y="10682"/>
                  <a:pt x="3244" y="10613"/>
                  <a:pt x="3200" y="10691"/>
                </a:cubicBezTo>
                <a:cubicBezTo>
                  <a:pt x="3169" y="10745"/>
                  <a:pt x="3159" y="10854"/>
                  <a:pt x="3150" y="10914"/>
                </a:cubicBezTo>
                <a:cubicBezTo>
                  <a:pt x="3230" y="10914"/>
                  <a:pt x="3289" y="10879"/>
                  <a:pt x="3373" y="10889"/>
                </a:cubicBezTo>
                <a:cubicBezTo>
                  <a:pt x="3530" y="10907"/>
                  <a:pt x="3539" y="11088"/>
                  <a:pt x="3398" y="11162"/>
                </a:cubicBezTo>
                <a:cubicBezTo>
                  <a:pt x="3311" y="11207"/>
                  <a:pt x="3177" y="11191"/>
                  <a:pt x="3101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866880" y="3643200"/>
            <a:ext cx="1554120" cy="517680"/>
          </a:xfrm>
          <a:custGeom>
            <a:avLst/>
            <a:gdLst/>
            <a:ahLst/>
            <a:rect l="l" t="t" r="r" b="b"/>
            <a:pathLst>
              <a:path w="4317" h="1440">
                <a:moveTo>
                  <a:pt x="3894" y="10740"/>
                </a:moveTo>
                <a:cubicBezTo>
                  <a:pt x="3894" y="10861"/>
                  <a:pt x="3903" y="10970"/>
                  <a:pt x="3894" y="11088"/>
                </a:cubicBezTo>
                <a:cubicBezTo>
                  <a:pt x="3894" y="11104"/>
                  <a:pt x="3894" y="11121"/>
                  <a:pt x="3894" y="11137"/>
                </a:cubicBezTo>
              </a:path>
              <a:path w="4317" h="1440">
                <a:moveTo>
                  <a:pt x="4142" y="10790"/>
                </a:moveTo>
                <a:cubicBezTo>
                  <a:pt x="4136" y="10850"/>
                  <a:pt x="4118" y="10904"/>
                  <a:pt x="4118" y="10964"/>
                </a:cubicBezTo>
                <a:cubicBezTo>
                  <a:pt x="4195" y="10972"/>
                  <a:pt x="4262" y="10988"/>
                  <a:pt x="4341" y="10988"/>
                </a:cubicBezTo>
              </a:path>
              <a:path w="4317" h="1440">
                <a:moveTo>
                  <a:pt x="4366" y="10666"/>
                </a:moveTo>
                <a:cubicBezTo>
                  <a:pt x="4350" y="10811"/>
                  <a:pt x="4341" y="10970"/>
                  <a:pt x="4316" y="11112"/>
                </a:cubicBezTo>
                <a:cubicBezTo>
                  <a:pt x="4304" y="11182"/>
                  <a:pt x="4263" y="11194"/>
                  <a:pt x="4316" y="11212"/>
                </a:cubicBezTo>
              </a:path>
              <a:path w="4317" h="1440">
                <a:moveTo>
                  <a:pt x="5928" y="10443"/>
                </a:moveTo>
                <a:cubicBezTo>
                  <a:pt x="5842" y="10443"/>
                  <a:pt x="5714" y="10439"/>
                  <a:pt x="5606" y="10418"/>
                </a:cubicBezTo>
                <a:cubicBezTo>
                  <a:pt x="5401" y="10379"/>
                  <a:pt x="5195" y="10325"/>
                  <a:pt x="4986" y="10319"/>
                </a:cubicBezTo>
                <a:cubicBezTo>
                  <a:pt x="4865" y="10316"/>
                  <a:pt x="4755" y="10308"/>
                  <a:pt x="4638" y="10294"/>
                </a:cubicBezTo>
                <a:cubicBezTo>
                  <a:pt x="4483" y="10276"/>
                  <a:pt x="4327" y="10248"/>
                  <a:pt x="4167" y="10244"/>
                </a:cubicBezTo>
                <a:cubicBezTo>
                  <a:pt x="4005" y="10240"/>
                  <a:pt x="3833" y="10236"/>
                  <a:pt x="3671" y="10220"/>
                </a:cubicBezTo>
                <a:cubicBezTo>
                  <a:pt x="3448" y="10198"/>
                  <a:pt x="3224" y="10174"/>
                  <a:pt x="3001" y="10145"/>
                </a:cubicBezTo>
                <a:cubicBezTo>
                  <a:pt x="2892" y="10131"/>
                  <a:pt x="2574" y="10064"/>
                  <a:pt x="2505" y="10145"/>
                </a:cubicBezTo>
                <a:cubicBezTo>
                  <a:pt x="2400" y="10268"/>
                  <a:pt x="2415" y="10566"/>
                  <a:pt x="2406" y="10716"/>
                </a:cubicBezTo>
                <a:cubicBezTo>
                  <a:pt x="2398" y="10849"/>
                  <a:pt x="2421" y="10966"/>
                  <a:pt x="2431" y="11088"/>
                </a:cubicBezTo>
                <a:cubicBezTo>
                  <a:pt x="2437" y="11159"/>
                  <a:pt x="2420" y="11205"/>
                  <a:pt x="2456" y="11261"/>
                </a:cubicBezTo>
                <a:cubicBezTo>
                  <a:pt x="2527" y="11371"/>
                  <a:pt x="2622" y="11423"/>
                  <a:pt x="2753" y="11460"/>
                </a:cubicBezTo>
                <a:cubicBezTo>
                  <a:pt x="2935" y="11511"/>
                  <a:pt x="3115" y="11511"/>
                  <a:pt x="3299" y="11534"/>
                </a:cubicBezTo>
                <a:cubicBezTo>
                  <a:pt x="3474" y="11556"/>
                  <a:pt x="3642" y="11559"/>
                  <a:pt x="3820" y="11559"/>
                </a:cubicBezTo>
                <a:cubicBezTo>
                  <a:pt x="3982" y="11559"/>
                  <a:pt x="4133" y="11547"/>
                  <a:pt x="4291" y="11534"/>
                </a:cubicBezTo>
                <a:cubicBezTo>
                  <a:pt x="4464" y="11519"/>
                  <a:pt x="4638" y="11523"/>
                  <a:pt x="4812" y="11509"/>
                </a:cubicBezTo>
                <a:cubicBezTo>
                  <a:pt x="5004" y="11493"/>
                  <a:pt x="5189" y="11485"/>
                  <a:pt x="5383" y="11485"/>
                </a:cubicBezTo>
                <a:cubicBezTo>
                  <a:pt x="5567" y="11485"/>
                  <a:pt x="5746" y="11499"/>
                  <a:pt x="5928" y="11509"/>
                </a:cubicBezTo>
                <a:cubicBezTo>
                  <a:pt x="6104" y="11518"/>
                  <a:pt x="6276" y="11545"/>
                  <a:pt x="6449" y="11559"/>
                </a:cubicBezTo>
                <a:cubicBezTo>
                  <a:pt x="6490" y="11562"/>
                  <a:pt x="6532" y="11557"/>
                  <a:pt x="6573" y="11559"/>
                </a:cubicBezTo>
                <a:cubicBezTo>
                  <a:pt x="6613" y="11441"/>
                  <a:pt x="6639" y="11321"/>
                  <a:pt x="6648" y="11187"/>
                </a:cubicBezTo>
                <a:cubicBezTo>
                  <a:pt x="6658" y="11035"/>
                  <a:pt x="6650" y="10889"/>
                  <a:pt x="6672" y="10740"/>
                </a:cubicBezTo>
                <a:cubicBezTo>
                  <a:pt x="6680" y="10688"/>
                  <a:pt x="6722" y="10618"/>
                  <a:pt x="6722" y="10567"/>
                </a:cubicBezTo>
                <a:cubicBezTo>
                  <a:pt x="6722" y="10538"/>
                  <a:pt x="6716" y="10483"/>
                  <a:pt x="6697" y="10468"/>
                </a:cubicBezTo>
                <a:cubicBezTo>
                  <a:pt x="6616" y="10402"/>
                  <a:pt x="6449" y="10392"/>
                  <a:pt x="6350" y="10368"/>
                </a:cubicBezTo>
                <a:cubicBezTo>
                  <a:pt x="6211" y="10334"/>
                  <a:pt x="6071" y="10344"/>
                  <a:pt x="5928" y="10344"/>
                </a:cubicBezTo>
                <a:cubicBezTo>
                  <a:pt x="5876" y="10344"/>
                  <a:pt x="5770" y="10366"/>
                  <a:pt x="5755" y="10368"/>
                </a:cubicBezTo>
                <a:cubicBezTo>
                  <a:pt x="5747" y="10368"/>
                  <a:pt x="5738" y="10368"/>
                  <a:pt x="5730" y="10368"/>
                </a:cubicBezTo>
              </a:path>
              <a:path w="4317" h="1440">
                <a:moveTo>
                  <a:pt x="2629" y="10914"/>
                </a:moveTo>
                <a:cubicBezTo>
                  <a:pt x="2629" y="10889"/>
                  <a:pt x="2629" y="10865"/>
                  <a:pt x="2629" y="10840"/>
                </a:cubicBezTo>
                <a:cubicBezTo>
                  <a:pt x="2668" y="10830"/>
                  <a:pt x="2684" y="10815"/>
                  <a:pt x="2729" y="10815"/>
                </a:cubicBezTo>
                <a:cubicBezTo>
                  <a:pt x="2737" y="10815"/>
                  <a:pt x="2745" y="10815"/>
                  <a:pt x="2753" y="10815"/>
                </a:cubicBezTo>
                <a:cubicBezTo>
                  <a:pt x="2764" y="10860"/>
                  <a:pt x="2783" y="10878"/>
                  <a:pt x="2828" y="10889"/>
                </a:cubicBezTo>
                <a:cubicBezTo>
                  <a:pt x="2855" y="10945"/>
                  <a:pt x="2888" y="10939"/>
                  <a:pt x="2952" y="10939"/>
                </a:cubicBezTo>
                <a:cubicBezTo>
                  <a:pt x="2963" y="10906"/>
                  <a:pt x="2965" y="10917"/>
                  <a:pt x="3001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803760" y="1724040"/>
            <a:ext cx="304560" cy="2374920"/>
          </a:xfrm>
          <a:custGeom>
            <a:avLst/>
            <a:gdLst/>
            <a:ahLst/>
            <a:rect l="l" t="t" r="r" b="b"/>
            <a:pathLst>
              <a:path w="844" h="6599">
                <a:moveTo>
                  <a:pt x="10740" y="10368"/>
                </a:moveTo>
                <a:cubicBezTo>
                  <a:pt x="10674" y="10453"/>
                  <a:pt x="10613" y="10586"/>
                  <a:pt x="10592" y="10691"/>
                </a:cubicBezTo>
                <a:cubicBezTo>
                  <a:pt x="10578" y="10759"/>
                  <a:pt x="10586" y="10813"/>
                  <a:pt x="10616" y="10864"/>
                </a:cubicBezTo>
                <a:cubicBezTo>
                  <a:pt x="10751" y="10846"/>
                  <a:pt x="10887" y="10816"/>
                  <a:pt x="10939" y="10666"/>
                </a:cubicBezTo>
                <a:cubicBezTo>
                  <a:pt x="10939" y="10641"/>
                  <a:pt x="10939" y="10617"/>
                  <a:pt x="10939" y="10592"/>
                </a:cubicBezTo>
                <a:cubicBezTo>
                  <a:pt x="10815" y="10564"/>
                  <a:pt x="10730" y="10643"/>
                  <a:pt x="10716" y="10790"/>
                </a:cubicBezTo>
                <a:cubicBezTo>
                  <a:pt x="10735" y="10847"/>
                  <a:pt x="10725" y="10872"/>
                  <a:pt x="10765" y="10864"/>
                </a:cubicBezTo>
              </a:path>
              <a:path w="844" h="6599">
                <a:moveTo>
                  <a:pt x="10864" y="5730"/>
                </a:moveTo>
                <a:cubicBezTo>
                  <a:pt x="10821" y="5708"/>
                  <a:pt x="10809" y="5704"/>
                  <a:pt x="10790" y="5680"/>
                </a:cubicBezTo>
                <a:cubicBezTo>
                  <a:pt x="10661" y="5772"/>
                  <a:pt x="10641" y="5973"/>
                  <a:pt x="10641" y="6127"/>
                </a:cubicBezTo>
                <a:cubicBezTo>
                  <a:pt x="10663" y="6261"/>
                  <a:pt x="10661" y="6299"/>
                  <a:pt x="10740" y="6350"/>
                </a:cubicBezTo>
                <a:cubicBezTo>
                  <a:pt x="10868" y="6282"/>
                  <a:pt x="11108" y="6148"/>
                  <a:pt x="10964" y="5953"/>
                </a:cubicBezTo>
                <a:cubicBezTo>
                  <a:pt x="10907" y="5877"/>
                  <a:pt x="10803" y="5926"/>
                  <a:pt x="10765" y="5953"/>
                </a:cubicBezTo>
              </a:path>
              <a:path w="844" h="6599">
                <a:moveTo>
                  <a:pt x="10840" y="6524"/>
                </a:moveTo>
                <a:cubicBezTo>
                  <a:pt x="10858" y="6593"/>
                  <a:pt x="10883" y="6674"/>
                  <a:pt x="10889" y="6747"/>
                </a:cubicBezTo>
                <a:cubicBezTo>
                  <a:pt x="10915" y="7044"/>
                  <a:pt x="10948" y="7342"/>
                  <a:pt x="10964" y="7640"/>
                </a:cubicBezTo>
                <a:cubicBezTo>
                  <a:pt x="10971" y="7781"/>
                  <a:pt x="10984" y="7922"/>
                  <a:pt x="10988" y="8062"/>
                </a:cubicBezTo>
                <a:cubicBezTo>
                  <a:pt x="10992" y="8206"/>
                  <a:pt x="11006" y="8367"/>
                  <a:pt x="11038" y="8508"/>
                </a:cubicBezTo>
                <a:cubicBezTo>
                  <a:pt x="11093" y="8747"/>
                  <a:pt x="11124" y="8984"/>
                  <a:pt x="11162" y="9227"/>
                </a:cubicBezTo>
                <a:cubicBezTo>
                  <a:pt x="11185" y="9372"/>
                  <a:pt x="11208" y="9503"/>
                  <a:pt x="11212" y="9649"/>
                </a:cubicBezTo>
                <a:cubicBezTo>
                  <a:pt x="11214" y="9712"/>
                  <a:pt x="11183" y="9740"/>
                  <a:pt x="11187" y="9798"/>
                </a:cubicBezTo>
                <a:cubicBezTo>
                  <a:pt x="11191" y="9865"/>
                  <a:pt x="11199" y="9977"/>
                  <a:pt x="11212" y="10046"/>
                </a:cubicBezTo>
                <a:cubicBezTo>
                  <a:pt x="11220" y="10092"/>
                  <a:pt x="11256" y="10179"/>
                  <a:pt x="11261" y="10195"/>
                </a:cubicBezTo>
              </a:path>
              <a:path w="844" h="6599">
                <a:moveTo>
                  <a:pt x="11286" y="10269"/>
                </a:moveTo>
                <a:cubicBezTo>
                  <a:pt x="11194" y="10325"/>
                  <a:pt x="11152" y="10454"/>
                  <a:pt x="11137" y="10567"/>
                </a:cubicBezTo>
                <a:cubicBezTo>
                  <a:pt x="11137" y="10645"/>
                  <a:pt x="11122" y="10663"/>
                  <a:pt x="11162" y="10691"/>
                </a:cubicBezTo>
                <a:cubicBezTo>
                  <a:pt x="11291" y="10652"/>
                  <a:pt x="11464" y="10524"/>
                  <a:pt x="11410" y="10344"/>
                </a:cubicBezTo>
                <a:cubicBezTo>
                  <a:pt x="11396" y="10297"/>
                  <a:pt x="11271" y="10319"/>
                  <a:pt x="11237" y="10319"/>
                </a:cubicBezTo>
              </a:path>
              <a:path w="844" h="6599">
                <a:moveTo>
                  <a:pt x="10889" y="4812"/>
                </a:moveTo>
                <a:cubicBezTo>
                  <a:pt x="10844" y="4778"/>
                  <a:pt x="10685" y="4766"/>
                  <a:pt x="10666" y="4887"/>
                </a:cubicBezTo>
                <a:cubicBezTo>
                  <a:pt x="10642" y="5040"/>
                  <a:pt x="10878" y="5082"/>
                  <a:pt x="10864" y="5209"/>
                </a:cubicBezTo>
                <a:cubicBezTo>
                  <a:pt x="10817" y="5280"/>
                  <a:pt x="10804" y="5304"/>
                  <a:pt x="10740" y="5308"/>
                </a:cubicBezTo>
                <a:cubicBezTo>
                  <a:pt x="10675" y="5241"/>
                  <a:pt x="10762" y="5103"/>
                  <a:pt x="10790" y="5011"/>
                </a:cubicBezTo>
                <a:cubicBezTo>
                  <a:pt x="10812" y="4941"/>
                  <a:pt x="10815" y="4903"/>
                  <a:pt x="10815" y="4837"/>
                </a:cubicBezTo>
              </a:path>
              <a:path w="844" h="6599">
                <a:moveTo>
                  <a:pt x="10740" y="11038"/>
                </a:moveTo>
                <a:cubicBezTo>
                  <a:pt x="10728" y="11043"/>
                  <a:pt x="10605" y="11139"/>
                  <a:pt x="10641" y="11162"/>
                </a:cubicBezTo>
                <a:cubicBezTo>
                  <a:pt x="10722" y="11189"/>
                  <a:pt x="10754" y="11197"/>
                  <a:pt x="10815" y="11187"/>
                </a:cubicBezTo>
                <a:cubicBezTo>
                  <a:pt x="10765" y="11384"/>
                  <a:pt x="10733" y="11377"/>
                  <a:pt x="10567" y="11336"/>
                </a:cubicBezTo>
              </a:path>
              <a:path w="844" h="6599">
                <a:moveTo>
                  <a:pt x="10716" y="10988"/>
                </a:moveTo>
                <a:cubicBezTo>
                  <a:pt x="10828" y="10972"/>
                  <a:pt x="10960" y="10936"/>
                  <a:pt x="11063" y="10889"/>
                </a:cubicBezTo>
                <a:cubicBezTo>
                  <a:pt x="11085" y="10867"/>
                  <a:pt x="11090" y="10858"/>
                  <a:pt x="11112" y="10864"/>
                </a:cubicBezTo>
                <a:cubicBezTo>
                  <a:pt x="11097" y="10973"/>
                  <a:pt x="11064" y="11100"/>
                  <a:pt x="11088" y="11212"/>
                </a:cubicBezTo>
                <a:cubicBezTo>
                  <a:pt x="11096" y="11220"/>
                  <a:pt x="11104" y="11229"/>
                  <a:pt x="11112" y="11237"/>
                </a:cubicBezTo>
                <a:cubicBezTo>
                  <a:pt x="11246" y="11220"/>
                  <a:pt x="11397" y="11188"/>
                  <a:pt x="11410" y="11013"/>
                </a:cubicBezTo>
                <a:cubicBezTo>
                  <a:pt x="11413" y="10968"/>
                  <a:pt x="11251" y="11174"/>
                  <a:pt x="11237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1768320"/>
            <a:ext cx="189000" cy="1160640"/>
          </a:xfrm>
          <a:custGeom>
            <a:avLst/>
            <a:gdLst/>
            <a:ahLst/>
            <a:rect l="l" t="t" r="r" b="b"/>
            <a:pathLst>
              <a:path w="522" h="3226">
                <a:moveTo>
                  <a:pt x="9302" y="5482"/>
                </a:moveTo>
                <a:cubicBezTo>
                  <a:pt x="9302" y="5457"/>
                  <a:pt x="9302" y="5449"/>
                  <a:pt x="9302" y="5432"/>
                </a:cubicBezTo>
              </a:path>
              <a:path w="522" h="3226">
                <a:moveTo>
                  <a:pt x="9723" y="5680"/>
                </a:moveTo>
                <a:cubicBezTo>
                  <a:pt x="9573" y="5680"/>
                  <a:pt x="9575" y="5910"/>
                  <a:pt x="9575" y="6028"/>
                </a:cubicBezTo>
                <a:cubicBezTo>
                  <a:pt x="9575" y="6191"/>
                  <a:pt x="9602" y="6218"/>
                  <a:pt x="9723" y="6251"/>
                </a:cubicBezTo>
                <a:cubicBezTo>
                  <a:pt x="9799" y="6144"/>
                  <a:pt x="9935" y="5858"/>
                  <a:pt x="9699" y="5779"/>
                </a:cubicBezTo>
                <a:cubicBezTo>
                  <a:pt x="9682" y="5787"/>
                  <a:pt x="9666" y="5796"/>
                  <a:pt x="9649" y="5804"/>
                </a:cubicBezTo>
              </a:path>
              <a:path w="522" h="3226">
                <a:moveTo>
                  <a:pt x="9599" y="6176"/>
                </a:moveTo>
                <a:cubicBezTo>
                  <a:pt x="9599" y="6398"/>
                  <a:pt x="9583" y="6628"/>
                  <a:pt x="9624" y="6846"/>
                </a:cubicBezTo>
                <a:cubicBezTo>
                  <a:pt x="9632" y="6879"/>
                  <a:pt x="9641" y="6912"/>
                  <a:pt x="9649" y="6945"/>
                </a:cubicBezTo>
              </a:path>
              <a:path w="522" h="3226">
                <a:moveTo>
                  <a:pt x="9649" y="7094"/>
                </a:moveTo>
                <a:cubicBezTo>
                  <a:pt x="9504" y="7130"/>
                  <a:pt x="9451" y="7290"/>
                  <a:pt x="9475" y="7441"/>
                </a:cubicBezTo>
                <a:cubicBezTo>
                  <a:pt x="9492" y="7474"/>
                  <a:pt x="9508" y="7508"/>
                  <a:pt x="9525" y="7541"/>
                </a:cubicBezTo>
                <a:cubicBezTo>
                  <a:pt x="9730" y="7589"/>
                  <a:pt x="9856" y="7547"/>
                  <a:pt x="9798" y="7293"/>
                </a:cubicBezTo>
                <a:cubicBezTo>
                  <a:pt x="9767" y="7155"/>
                  <a:pt x="9700" y="7174"/>
                  <a:pt x="9599" y="7193"/>
                </a:cubicBezTo>
              </a:path>
              <a:path w="522" h="3226">
                <a:moveTo>
                  <a:pt x="9451" y="4911"/>
                </a:moveTo>
                <a:cubicBezTo>
                  <a:pt x="9473" y="5050"/>
                  <a:pt x="9508" y="5192"/>
                  <a:pt x="9525" y="5333"/>
                </a:cubicBezTo>
                <a:cubicBezTo>
                  <a:pt x="9525" y="5350"/>
                  <a:pt x="9525" y="5366"/>
                  <a:pt x="9525" y="5383"/>
                </a:cubicBezTo>
              </a:path>
              <a:path w="522" h="3226">
                <a:moveTo>
                  <a:pt x="9475" y="7789"/>
                </a:moveTo>
                <a:cubicBezTo>
                  <a:pt x="9393" y="7761"/>
                  <a:pt x="9554" y="7744"/>
                  <a:pt x="9575" y="7739"/>
                </a:cubicBezTo>
                <a:cubicBezTo>
                  <a:pt x="9636" y="7724"/>
                  <a:pt x="9690" y="7701"/>
                  <a:pt x="9748" y="7689"/>
                </a:cubicBezTo>
                <a:cubicBezTo>
                  <a:pt x="9730" y="7832"/>
                  <a:pt x="9704" y="7966"/>
                  <a:pt x="9699" y="8111"/>
                </a:cubicBezTo>
                <a:cubicBezTo>
                  <a:pt x="9699" y="8119"/>
                  <a:pt x="9699" y="8128"/>
                  <a:pt x="9699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678040" y="1768320"/>
            <a:ext cx="750960" cy="955800"/>
          </a:xfrm>
          <a:custGeom>
            <a:avLst/>
            <a:gdLst/>
            <a:ahLst/>
            <a:rect l="l" t="t" r="r" b="b"/>
            <a:pathLst>
              <a:path w="2085" h="2655">
                <a:moveTo>
                  <a:pt x="8334" y="5904"/>
                </a:moveTo>
                <a:cubicBezTo>
                  <a:pt x="8467" y="5904"/>
                  <a:pt x="8539" y="5808"/>
                  <a:pt x="8682" y="5804"/>
                </a:cubicBezTo>
                <a:cubicBezTo>
                  <a:pt x="8698" y="5812"/>
                  <a:pt x="8715" y="5821"/>
                  <a:pt x="8731" y="5829"/>
                </a:cubicBezTo>
                <a:cubicBezTo>
                  <a:pt x="8701" y="5901"/>
                  <a:pt x="8532" y="6191"/>
                  <a:pt x="8533" y="6052"/>
                </a:cubicBezTo>
                <a:cubicBezTo>
                  <a:pt x="8668" y="6068"/>
                  <a:pt x="8920" y="6156"/>
                  <a:pt x="8682" y="6325"/>
                </a:cubicBezTo>
                <a:cubicBezTo>
                  <a:pt x="8534" y="6429"/>
                  <a:pt x="8463" y="6314"/>
                  <a:pt x="8409" y="6226"/>
                </a:cubicBezTo>
              </a:path>
              <a:path w="2085" h="2655">
                <a:moveTo>
                  <a:pt x="8954" y="5680"/>
                </a:moveTo>
                <a:cubicBezTo>
                  <a:pt x="8933" y="5856"/>
                  <a:pt x="8861" y="6053"/>
                  <a:pt x="8855" y="6226"/>
                </a:cubicBezTo>
                <a:cubicBezTo>
                  <a:pt x="8875" y="6344"/>
                  <a:pt x="8855" y="6379"/>
                  <a:pt x="8930" y="6400"/>
                </a:cubicBezTo>
                <a:cubicBezTo>
                  <a:pt x="9139" y="6326"/>
                  <a:pt x="9204" y="6268"/>
                  <a:pt x="9252" y="6052"/>
                </a:cubicBezTo>
                <a:cubicBezTo>
                  <a:pt x="9099" y="6052"/>
                  <a:pt x="9077" y="6164"/>
                  <a:pt x="9029" y="6300"/>
                </a:cubicBezTo>
                <a:cubicBezTo>
                  <a:pt x="9021" y="6333"/>
                  <a:pt x="9012" y="6367"/>
                  <a:pt x="9004" y="6400"/>
                </a:cubicBezTo>
              </a:path>
              <a:path w="2085" h="2655">
                <a:moveTo>
                  <a:pt x="8235" y="6573"/>
                </a:moveTo>
                <a:cubicBezTo>
                  <a:pt x="8235" y="6381"/>
                  <a:pt x="8272" y="6196"/>
                  <a:pt x="8260" y="6003"/>
                </a:cubicBezTo>
                <a:cubicBezTo>
                  <a:pt x="8252" y="5882"/>
                  <a:pt x="8210" y="5776"/>
                  <a:pt x="8210" y="5655"/>
                </a:cubicBezTo>
                <a:cubicBezTo>
                  <a:pt x="8210" y="5647"/>
                  <a:pt x="8210" y="5639"/>
                  <a:pt x="8210" y="5631"/>
                </a:cubicBezTo>
                <a:cubicBezTo>
                  <a:pt x="8400" y="5620"/>
                  <a:pt x="8590" y="5617"/>
                  <a:pt x="8781" y="5606"/>
                </a:cubicBezTo>
                <a:cubicBezTo>
                  <a:pt x="8966" y="5596"/>
                  <a:pt x="9334" y="5512"/>
                  <a:pt x="9525" y="5581"/>
                </a:cubicBezTo>
                <a:cubicBezTo>
                  <a:pt x="9525" y="5589"/>
                  <a:pt x="9525" y="5598"/>
                  <a:pt x="9525" y="5606"/>
                </a:cubicBezTo>
              </a:path>
              <a:path w="2085" h="2655">
                <a:moveTo>
                  <a:pt x="7441" y="5904"/>
                </a:moveTo>
                <a:cubicBezTo>
                  <a:pt x="7548" y="5886"/>
                  <a:pt x="7655" y="5869"/>
                  <a:pt x="7764" y="5854"/>
                </a:cubicBezTo>
                <a:cubicBezTo>
                  <a:pt x="7789" y="5854"/>
                  <a:pt x="7797" y="5854"/>
                  <a:pt x="7813" y="5854"/>
                </a:cubicBezTo>
                <a:cubicBezTo>
                  <a:pt x="7813" y="6038"/>
                  <a:pt x="7783" y="6197"/>
                  <a:pt x="7739" y="6375"/>
                </a:cubicBezTo>
                <a:cubicBezTo>
                  <a:pt x="7720" y="6449"/>
                  <a:pt x="7712" y="6456"/>
                  <a:pt x="7714" y="6499"/>
                </a:cubicBezTo>
              </a:path>
              <a:path w="2085" h="2655">
                <a:moveTo>
                  <a:pt x="9054" y="4911"/>
                </a:moveTo>
                <a:cubicBezTo>
                  <a:pt x="8978" y="4924"/>
                  <a:pt x="8909" y="4961"/>
                  <a:pt x="8830" y="4961"/>
                </a:cubicBezTo>
                <a:cubicBezTo>
                  <a:pt x="8846" y="5044"/>
                  <a:pt x="8855" y="5099"/>
                  <a:pt x="8855" y="5184"/>
                </a:cubicBezTo>
                <a:cubicBezTo>
                  <a:pt x="8972" y="5164"/>
                  <a:pt x="9002" y="5134"/>
                  <a:pt x="9103" y="5184"/>
                </a:cubicBezTo>
                <a:cubicBezTo>
                  <a:pt x="9039" y="5331"/>
                  <a:pt x="8996" y="5399"/>
                  <a:pt x="8830" y="5432"/>
                </a:cubicBezTo>
              </a:path>
              <a:path w="2085" h="2655">
                <a:moveTo>
                  <a:pt x="8458" y="6672"/>
                </a:moveTo>
                <a:cubicBezTo>
                  <a:pt x="8495" y="6623"/>
                  <a:pt x="8632" y="6478"/>
                  <a:pt x="8632" y="6648"/>
                </a:cubicBezTo>
                <a:cubicBezTo>
                  <a:pt x="8608" y="6719"/>
                  <a:pt x="8601" y="6742"/>
                  <a:pt x="8558" y="6772"/>
                </a:cubicBezTo>
                <a:cubicBezTo>
                  <a:pt x="8584" y="6736"/>
                  <a:pt x="8715" y="6685"/>
                  <a:pt x="8682" y="6796"/>
                </a:cubicBezTo>
                <a:cubicBezTo>
                  <a:pt x="8665" y="6855"/>
                  <a:pt x="8441" y="6990"/>
                  <a:pt x="8434" y="6921"/>
                </a:cubicBezTo>
                <a:cubicBezTo>
                  <a:pt x="8442" y="6904"/>
                  <a:pt x="8450" y="6888"/>
                  <a:pt x="8458" y="6871"/>
                </a:cubicBezTo>
              </a:path>
              <a:path w="2085" h="2655">
                <a:moveTo>
                  <a:pt x="8930" y="6573"/>
                </a:moveTo>
                <a:cubicBezTo>
                  <a:pt x="8850" y="6573"/>
                  <a:pt x="8812" y="6590"/>
                  <a:pt x="8781" y="6672"/>
                </a:cubicBezTo>
                <a:cubicBezTo>
                  <a:pt x="8781" y="6680"/>
                  <a:pt x="8781" y="6689"/>
                  <a:pt x="8781" y="6697"/>
                </a:cubicBezTo>
                <a:cubicBezTo>
                  <a:pt x="8877" y="6686"/>
                  <a:pt x="8960" y="6665"/>
                  <a:pt x="9054" y="6648"/>
                </a:cubicBezTo>
                <a:cubicBezTo>
                  <a:pt x="9073" y="6800"/>
                  <a:pt x="8977" y="6853"/>
                  <a:pt x="8830" y="6896"/>
                </a:cubicBezTo>
                <a:cubicBezTo>
                  <a:pt x="8788" y="6896"/>
                  <a:pt x="8785" y="6879"/>
                  <a:pt x="8830" y="6821"/>
                </a:cubicBezTo>
              </a:path>
              <a:path w="2085" h="2655">
                <a:moveTo>
                  <a:pt x="8905" y="6672"/>
                </a:moveTo>
                <a:cubicBezTo>
                  <a:pt x="8936" y="6621"/>
                  <a:pt x="8996" y="6587"/>
                  <a:pt x="9054" y="6548"/>
                </a:cubicBezTo>
              </a:path>
              <a:path w="2085" h="2655">
                <a:moveTo>
                  <a:pt x="8161" y="7169"/>
                </a:moveTo>
                <a:cubicBezTo>
                  <a:pt x="8466" y="7059"/>
                  <a:pt x="8785" y="6964"/>
                  <a:pt x="9103" y="6896"/>
                </a:cubicBezTo>
                <a:cubicBezTo>
                  <a:pt x="9243" y="6876"/>
                  <a:pt x="9267" y="6867"/>
                  <a:pt x="9351" y="6871"/>
                </a:cubicBezTo>
              </a:path>
              <a:path w="2085" h="2655">
                <a:moveTo>
                  <a:pt x="8186" y="6921"/>
                </a:moveTo>
                <a:cubicBezTo>
                  <a:pt x="8267" y="6894"/>
                  <a:pt x="8325" y="6878"/>
                  <a:pt x="8409" y="6871"/>
                </a:cubicBezTo>
              </a:path>
              <a:path w="2085" h="2655">
                <a:moveTo>
                  <a:pt x="8979" y="7069"/>
                </a:moveTo>
                <a:cubicBezTo>
                  <a:pt x="9039" y="7089"/>
                  <a:pt x="8983" y="7183"/>
                  <a:pt x="8979" y="7243"/>
                </a:cubicBezTo>
                <a:cubicBezTo>
                  <a:pt x="8972" y="7357"/>
                  <a:pt x="8965" y="7454"/>
                  <a:pt x="895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5357880" y="5518080"/>
            <a:ext cx="1928880" cy="268200"/>
          </a:xfrm>
          <a:custGeom>
            <a:avLst/>
            <a:gdLst/>
            <a:ahLst/>
            <a:rect l="l" t="t" r="r" b="b"/>
            <a:pathLst>
              <a:path w="5359" h="745">
                <a:moveTo>
                  <a:pt x="14883" y="15478"/>
                </a:moveTo>
                <a:cubicBezTo>
                  <a:pt x="14890" y="15512"/>
                  <a:pt x="14901" y="15543"/>
                  <a:pt x="14908" y="15577"/>
                </a:cubicBezTo>
              </a:path>
              <a:path w="5359" h="745">
                <a:moveTo>
                  <a:pt x="15602" y="15379"/>
                </a:moveTo>
                <a:cubicBezTo>
                  <a:pt x="15736" y="15362"/>
                  <a:pt x="15868" y="15351"/>
                  <a:pt x="15999" y="15329"/>
                </a:cubicBezTo>
              </a:path>
              <a:path w="5359" h="745">
                <a:moveTo>
                  <a:pt x="19993" y="16073"/>
                </a:moveTo>
                <a:cubicBezTo>
                  <a:pt x="20085" y="16041"/>
                  <a:pt x="20180" y="15999"/>
                  <a:pt x="20241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313160" y="5313240"/>
            <a:ext cx="98640" cy="152640"/>
          </a:xfrm>
          <a:custGeom>
            <a:avLst/>
            <a:gdLst/>
            <a:ahLst/>
            <a:rect l="l" t="t" r="r" b="b"/>
            <a:pathLst>
              <a:path w="274" h="422">
                <a:moveTo>
                  <a:pt x="12055" y="14759"/>
                </a:moveTo>
                <a:cubicBezTo>
                  <a:pt x="12055" y="14883"/>
                  <a:pt x="12110" y="14862"/>
                  <a:pt x="12204" y="14932"/>
                </a:cubicBezTo>
                <a:cubicBezTo>
                  <a:pt x="12357" y="15047"/>
                  <a:pt x="12154" y="15162"/>
                  <a:pt x="12055" y="15180"/>
                </a:cubicBezTo>
                <a:cubicBezTo>
                  <a:pt x="11987" y="15180"/>
                  <a:pt x="11960" y="15186"/>
                  <a:pt x="12005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5010120" y="5241960"/>
            <a:ext cx="1303200" cy="696960"/>
          </a:xfrm>
          <a:custGeom>
            <a:avLst/>
            <a:gdLst/>
            <a:ahLst/>
            <a:rect l="l" t="t" r="r" b="b"/>
            <a:pathLst>
              <a:path w="3623" h="1936">
                <a:moveTo>
                  <a:pt x="14337" y="15056"/>
                </a:moveTo>
                <a:cubicBezTo>
                  <a:pt x="14384" y="15009"/>
                  <a:pt x="14286" y="14950"/>
                  <a:pt x="14213" y="14957"/>
                </a:cubicBezTo>
                <a:cubicBezTo>
                  <a:pt x="14090" y="14969"/>
                  <a:pt x="13965" y="15041"/>
                  <a:pt x="13915" y="15156"/>
                </a:cubicBezTo>
                <a:cubicBezTo>
                  <a:pt x="13915" y="15164"/>
                  <a:pt x="13915" y="15172"/>
                  <a:pt x="13915" y="15180"/>
                </a:cubicBezTo>
                <a:cubicBezTo>
                  <a:pt x="14041" y="15252"/>
                  <a:pt x="14229" y="15303"/>
                  <a:pt x="14288" y="15453"/>
                </a:cubicBezTo>
                <a:cubicBezTo>
                  <a:pt x="14352" y="15615"/>
                  <a:pt x="14114" y="15607"/>
                  <a:pt x="14039" y="15602"/>
                </a:cubicBezTo>
                <a:cubicBezTo>
                  <a:pt x="14025" y="15405"/>
                  <a:pt x="14152" y="15384"/>
                  <a:pt x="14263" y="15230"/>
                </a:cubicBezTo>
                <a:cubicBezTo>
                  <a:pt x="14303" y="15149"/>
                  <a:pt x="14319" y="15136"/>
                  <a:pt x="14312" y="15081"/>
                </a:cubicBezTo>
              </a:path>
              <a:path w="3623" h="1936">
                <a:moveTo>
                  <a:pt x="14560" y="15032"/>
                </a:moveTo>
                <a:cubicBezTo>
                  <a:pt x="14543" y="15124"/>
                  <a:pt x="14502" y="15211"/>
                  <a:pt x="14486" y="15304"/>
                </a:cubicBezTo>
                <a:cubicBezTo>
                  <a:pt x="14575" y="15304"/>
                  <a:pt x="14651" y="15296"/>
                  <a:pt x="14734" y="15280"/>
                </a:cubicBezTo>
              </a:path>
              <a:path w="3623" h="1936">
                <a:moveTo>
                  <a:pt x="14734" y="14858"/>
                </a:moveTo>
                <a:cubicBezTo>
                  <a:pt x="14710" y="15047"/>
                  <a:pt x="14687" y="15239"/>
                  <a:pt x="14660" y="15429"/>
                </a:cubicBezTo>
                <a:cubicBezTo>
                  <a:pt x="14641" y="15544"/>
                  <a:pt x="14632" y="15560"/>
                  <a:pt x="14635" y="15627"/>
                </a:cubicBezTo>
              </a:path>
              <a:path w="3623" h="1936">
                <a:moveTo>
                  <a:pt x="15379" y="14908"/>
                </a:moveTo>
                <a:cubicBezTo>
                  <a:pt x="15346" y="14908"/>
                  <a:pt x="15225" y="14900"/>
                  <a:pt x="15205" y="14932"/>
                </a:cubicBezTo>
                <a:cubicBezTo>
                  <a:pt x="15161" y="15003"/>
                  <a:pt x="15142" y="15102"/>
                  <a:pt x="15106" y="15180"/>
                </a:cubicBezTo>
                <a:cubicBezTo>
                  <a:pt x="15178" y="15180"/>
                  <a:pt x="15264" y="15153"/>
                  <a:pt x="15329" y="15156"/>
                </a:cubicBezTo>
                <a:cubicBezTo>
                  <a:pt x="15543" y="15167"/>
                  <a:pt x="15557" y="15394"/>
                  <a:pt x="15429" y="15528"/>
                </a:cubicBezTo>
                <a:cubicBezTo>
                  <a:pt x="15281" y="15683"/>
                  <a:pt x="15130" y="15583"/>
                  <a:pt x="15131" y="15429"/>
                </a:cubicBezTo>
              </a:path>
              <a:path w="3623" h="1936">
                <a:moveTo>
                  <a:pt x="15652" y="15106"/>
                </a:moveTo>
                <a:cubicBezTo>
                  <a:pt x="15686" y="15100"/>
                  <a:pt x="16037" y="15049"/>
                  <a:pt x="16024" y="15106"/>
                </a:cubicBezTo>
                <a:cubicBezTo>
                  <a:pt x="16007" y="15123"/>
                  <a:pt x="15991" y="15139"/>
                  <a:pt x="15974" y="15156"/>
                </a:cubicBezTo>
              </a:path>
              <a:path w="3623" h="1936">
                <a:moveTo>
                  <a:pt x="17438" y="15205"/>
                </a:moveTo>
                <a:cubicBezTo>
                  <a:pt x="17438" y="15180"/>
                  <a:pt x="17438" y="15172"/>
                  <a:pt x="17462" y="15180"/>
                </a:cubicBezTo>
                <a:cubicBezTo>
                  <a:pt x="17415" y="15145"/>
                  <a:pt x="17365" y="15139"/>
                  <a:pt x="17314" y="15180"/>
                </a:cubicBezTo>
                <a:cubicBezTo>
                  <a:pt x="17269" y="15225"/>
                  <a:pt x="17252" y="15235"/>
                  <a:pt x="17264" y="15280"/>
                </a:cubicBezTo>
                <a:cubicBezTo>
                  <a:pt x="17347" y="15348"/>
                  <a:pt x="17443" y="15319"/>
                  <a:pt x="17512" y="15379"/>
                </a:cubicBezTo>
                <a:cubicBezTo>
                  <a:pt x="17582" y="15440"/>
                  <a:pt x="17502" y="15536"/>
                  <a:pt x="17438" y="15553"/>
                </a:cubicBezTo>
                <a:cubicBezTo>
                  <a:pt x="17372" y="15571"/>
                  <a:pt x="17313" y="15558"/>
                  <a:pt x="17264" y="15528"/>
                </a:cubicBezTo>
              </a:path>
              <a:path w="3623" h="1936">
                <a:moveTo>
                  <a:pt x="16421" y="14982"/>
                </a:moveTo>
                <a:cubicBezTo>
                  <a:pt x="16445" y="14911"/>
                  <a:pt x="16440" y="15057"/>
                  <a:pt x="16446" y="15131"/>
                </a:cubicBezTo>
                <a:cubicBezTo>
                  <a:pt x="16458" y="15272"/>
                  <a:pt x="16470" y="15553"/>
                  <a:pt x="16470" y="15553"/>
                </a:cubicBezTo>
                <a:cubicBezTo>
                  <a:pt x="16470" y="15545"/>
                  <a:pt x="16470" y="15536"/>
                  <a:pt x="16470" y="15528"/>
                </a:cubicBezTo>
              </a:path>
              <a:path w="3623" h="1936">
                <a:moveTo>
                  <a:pt x="16669" y="14957"/>
                </a:moveTo>
                <a:cubicBezTo>
                  <a:pt x="16599" y="14934"/>
                  <a:pt x="16699" y="14870"/>
                  <a:pt x="16743" y="14858"/>
                </a:cubicBezTo>
                <a:cubicBezTo>
                  <a:pt x="16760" y="14858"/>
                  <a:pt x="16776" y="14858"/>
                  <a:pt x="16793" y="14858"/>
                </a:cubicBezTo>
                <a:cubicBezTo>
                  <a:pt x="16855" y="15014"/>
                  <a:pt x="16842" y="15052"/>
                  <a:pt x="16743" y="15180"/>
                </a:cubicBezTo>
                <a:cubicBezTo>
                  <a:pt x="16622" y="15180"/>
                  <a:pt x="16825" y="15151"/>
                  <a:pt x="16867" y="15180"/>
                </a:cubicBezTo>
                <a:cubicBezTo>
                  <a:pt x="17022" y="15286"/>
                  <a:pt x="16857" y="15465"/>
                  <a:pt x="16743" y="15503"/>
                </a:cubicBezTo>
                <a:cubicBezTo>
                  <a:pt x="16688" y="15521"/>
                  <a:pt x="16637" y="15506"/>
                  <a:pt x="16619" y="15478"/>
                </a:cubicBezTo>
              </a:path>
              <a:path w="3623" h="1936">
                <a:moveTo>
                  <a:pt x="16421" y="15701"/>
                </a:moveTo>
                <a:cubicBezTo>
                  <a:pt x="16619" y="15677"/>
                  <a:pt x="16817" y="15649"/>
                  <a:pt x="17016" y="15627"/>
                </a:cubicBezTo>
                <a:cubicBezTo>
                  <a:pt x="17173" y="15610"/>
                  <a:pt x="17488" y="15445"/>
                  <a:pt x="17487" y="15602"/>
                </a:cubicBezTo>
                <a:cubicBezTo>
                  <a:pt x="17479" y="15610"/>
                  <a:pt x="17470" y="15619"/>
                  <a:pt x="17462" y="15627"/>
                </a:cubicBezTo>
              </a:path>
              <a:path w="3623" h="1936">
                <a:moveTo>
                  <a:pt x="14139" y="15801"/>
                </a:moveTo>
                <a:cubicBezTo>
                  <a:pt x="14392" y="15775"/>
                  <a:pt x="14652" y="15758"/>
                  <a:pt x="14908" y="15751"/>
                </a:cubicBezTo>
                <a:cubicBezTo>
                  <a:pt x="15180" y="15744"/>
                  <a:pt x="15454" y="15751"/>
                  <a:pt x="15726" y="15751"/>
                </a:cubicBezTo>
              </a:path>
              <a:path w="3623" h="1936">
                <a:moveTo>
                  <a:pt x="16470" y="15949"/>
                </a:moveTo>
                <a:cubicBezTo>
                  <a:pt x="16516" y="16040"/>
                  <a:pt x="16508" y="16188"/>
                  <a:pt x="16520" y="16297"/>
                </a:cubicBezTo>
                <a:cubicBezTo>
                  <a:pt x="16528" y="16370"/>
                  <a:pt x="16543" y="16263"/>
                  <a:pt x="16619" y="16123"/>
                </a:cubicBezTo>
              </a:path>
              <a:path w="3623" h="1936">
                <a:moveTo>
                  <a:pt x="16694" y="15974"/>
                </a:moveTo>
                <a:cubicBezTo>
                  <a:pt x="16729" y="15957"/>
                  <a:pt x="16908" y="15847"/>
                  <a:pt x="16917" y="15925"/>
                </a:cubicBezTo>
                <a:cubicBezTo>
                  <a:pt x="16924" y="15989"/>
                  <a:pt x="16855" y="16051"/>
                  <a:pt x="16818" y="16073"/>
                </a:cubicBezTo>
                <a:cubicBezTo>
                  <a:pt x="16834" y="15990"/>
                  <a:pt x="16936" y="15914"/>
                  <a:pt x="16991" y="16024"/>
                </a:cubicBezTo>
                <a:cubicBezTo>
                  <a:pt x="17059" y="16160"/>
                  <a:pt x="16838" y="16322"/>
                  <a:pt x="16718" y="16272"/>
                </a:cubicBezTo>
                <a:cubicBezTo>
                  <a:pt x="16702" y="16247"/>
                  <a:pt x="16685" y="16222"/>
                  <a:pt x="16669" y="16197"/>
                </a:cubicBezTo>
              </a:path>
              <a:path w="3623" h="1936">
                <a:moveTo>
                  <a:pt x="14461" y="15949"/>
                </a:moveTo>
                <a:cubicBezTo>
                  <a:pt x="14523" y="16031"/>
                  <a:pt x="14530" y="16262"/>
                  <a:pt x="14536" y="16396"/>
                </a:cubicBezTo>
                <a:cubicBezTo>
                  <a:pt x="14536" y="16429"/>
                  <a:pt x="14536" y="16462"/>
                  <a:pt x="14536" y="16495"/>
                </a:cubicBezTo>
              </a:path>
              <a:path w="3623" h="1936">
                <a:moveTo>
                  <a:pt x="14734" y="15949"/>
                </a:moveTo>
                <a:cubicBezTo>
                  <a:pt x="14784" y="15943"/>
                  <a:pt x="15042" y="15871"/>
                  <a:pt x="15032" y="15999"/>
                </a:cubicBezTo>
                <a:cubicBezTo>
                  <a:pt x="14983" y="16096"/>
                  <a:pt x="14967" y="16128"/>
                  <a:pt x="14908" y="16173"/>
                </a:cubicBezTo>
                <a:cubicBezTo>
                  <a:pt x="14855" y="16207"/>
                  <a:pt x="14983" y="16065"/>
                  <a:pt x="15106" y="16148"/>
                </a:cubicBezTo>
                <a:cubicBezTo>
                  <a:pt x="15301" y="16280"/>
                  <a:pt x="14888" y="16522"/>
                  <a:pt x="14759" y="16446"/>
                </a:cubicBezTo>
                <a:cubicBezTo>
                  <a:pt x="14751" y="16413"/>
                  <a:pt x="14742" y="16379"/>
                  <a:pt x="14734" y="16346"/>
                </a:cubicBezTo>
              </a:path>
              <a:path w="3623" h="1936">
                <a:moveTo>
                  <a:pt x="16694" y="14709"/>
                </a:moveTo>
                <a:cubicBezTo>
                  <a:pt x="16701" y="14616"/>
                  <a:pt x="16695" y="14640"/>
                  <a:pt x="16718" y="14560"/>
                </a:cubicBezTo>
                <a:cubicBezTo>
                  <a:pt x="16727" y="14711"/>
                  <a:pt x="16734" y="14852"/>
                  <a:pt x="16743" y="15007"/>
                </a:cubicBezTo>
                <a:cubicBezTo>
                  <a:pt x="16765" y="15379"/>
                  <a:pt x="16780" y="15752"/>
                  <a:pt x="16743" y="16123"/>
                </a:cubicBezTo>
                <a:cubicBezTo>
                  <a:pt x="16735" y="16198"/>
                  <a:pt x="16782" y="16337"/>
                  <a:pt x="16718" y="16297"/>
                </a:cubicBezTo>
                <a:cubicBezTo>
                  <a:pt x="16694" y="16297"/>
                  <a:pt x="16686" y="16297"/>
                  <a:pt x="16694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6769080" y="5419800"/>
            <a:ext cx="1384200" cy="679320"/>
          </a:xfrm>
          <a:custGeom>
            <a:avLst/>
            <a:gdLst/>
            <a:ahLst/>
            <a:rect l="l" t="t" r="r" b="b"/>
            <a:pathLst>
              <a:path w="3846" h="1887">
                <a:moveTo>
                  <a:pt x="19670" y="15801"/>
                </a:moveTo>
                <a:cubicBezTo>
                  <a:pt x="19519" y="15825"/>
                  <a:pt x="19394" y="15903"/>
                  <a:pt x="19298" y="16024"/>
                </a:cubicBezTo>
                <a:cubicBezTo>
                  <a:pt x="19290" y="16049"/>
                  <a:pt x="19281" y="16073"/>
                  <a:pt x="19273" y="16098"/>
                </a:cubicBezTo>
                <a:cubicBezTo>
                  <a:pt x="19410" y="16160"/>
                  <a:pt x="19525" y="16196"/>
                  <a:pt x="19645" y="16272"/>
                </a:cubicBezTo>
                <a:cubicBezTo>
                  <a:pt x="19603" y="16325"/>
                  <a:pt x="19261" y="16627"/>
                  <a:pt x="19248" y="16371"/>
                </a:cubicBezTo>
                <a:cubicBezTo>
                  <a:pt x="19300" y="16215"/>
                  <a:pt x="19323" y="16161"/>
                  <a:pt x="19447" y="16123"/>
                </a:cubicBezTo>
              </a:path>
              <a:path w="3846" h="1887">
                <a:moveTo>
                  <a:pt x="20042" y="16173"/>
                </a:moveTo>
                <a:cubicBezTo>
                  <a:pt x="20183" y="16173"/>
                  <a:pt x="20224" y="16173"/>
                  <a:pt x="20315" y="16173"/>
                </a:cubicBezTo>
              </a:path>
              <a:path w="3846" h="1887">
                <a:moveTo>
                  <a:pt x="20786" y="15553"/>
                </a:moveTo>
                <a:cubicBezTo>
                  <a:pt x="20754" y="15760"/>
                  <a:pt x="20668" y="15965"/>
                  <a:pt x="20638" y="16173"/>
                </a:cubicBezTo>
                <a:cubicBezTo>
                  <a:pt x="20638" y="16267"/>
                  <a:pt x="20617" y="16287"/>
                  <a:pt x="20662" y="16321"/>
                </a:cubicBezTo>
                <a:cubicBezTo>
                  <a:pt x="20861" y="16333"/>
                  <a:pt x="21008" y="16248"/>
                  <a:pt x="21158" y="16098"/>
                </a:cubicBezTo>
                <a:cubicBezTo>
                  <a:pt x="21180" y="16055"/>
                  <a:pt x="21193" y="16043"/>
                  <a:pt x="21158" y="16024"/>
                </a:cubicBezTo>
                <a:cubicBezTo>
                  <a:pt x="20975" y="16012"/>
                  <a:pt x="20914" y="16067"/>
                  <a:pt x="20836" y="16247"/>
                </a:cubicBezTo>
                <a:cubicBezTo>
                  <a:pt x="20810" y="16308"/>
                  <a:pt x="20929" y="16233"/>
                  <a:pt x="20985" y="16197"/>
                </a:cubicBezTo>
              </a:path>
              <a:path w="3846" h="1887">
                <a:moveTo>
                  <a:pt x="21332" y="16173"/>
                </a:moveTo>
                <a:cubicBezTo>
                  <a:pt x="21324" y="16181"/>
                  <a:pt x="21315" y="16189"/>
                  <a:pt x="21307" y="16197"/>
                </a:cubicBezTo>
                <a:cubicBezTo>
                  <a:pt x="21326" y="16142"/>
                  <a:pt x="21462" y="16049"/>
                  <a:pt x="21431" y="16098"/>
                </a:cubicBezTo>
                <a:cubicBezTo>
                  <a:pt x="21415" y="16115"/>
                  <a:pt x="21398" y="16131"/>
                  <a:pt x="21382" y="16148"/>
                </a:cubicBezTo>
              </a:path>
              <a:path w="3846" h="1887">
                <a:moveTo>
                  <a:pt x="22175" y="15429"/>
                </a:moveTo>
                <a:cubicBezTo>
                  <a:pt x="22104" y="15443"/>
                  <a:pt x="21938" y="15467"/>
                  <a:pt x="21878" y="15503"/>
                </a:cubicBezTo>
                <a:cubicBezTo>
                  <a:pt x="21855" y="15517"/>
                  <a:pt x="21842" y="15750"/>
                  <a:pt x="21828" y="15801"/>
                </a:cubicBezTo>
                <a:cubicBezTo>
                  <a:pt x="21925" y="15838"/>
                  <a:pt x="22046" y="15735"/>
                  <a:pt x="22175" y="15801"/>
                </a:cubicBezTo>
                <a:cubicBezTo>
                  <a:pt x="22444" y="15938"/>
                  <a:pt x="22194" y="16184"/>
                  <a:pt x="22002" y="16197"/>
                </a:cubicBezTo>
                <a:cubicBezTo>
                  <a:pt x="21849" y="16176"/>
                  <a:pt x="21811" y="16178"/>
                  <a:pt x="21729" y="16123"/>
                </a:cubicBezTo>
              </a:path>
              <a:path w="3846" h="1887">
                <a:moveTo>
                  <a:pt x="19050" y="15553"/>
                </a:moveTo>
                <a:cubicBezTo>
                  <a:pt x="19057" y="15849"/>
                  <a:pt x="19103" y="16150"/>
                  <a:pt x="19100" y="16446"/>
                </a:cubicBezTo>
                <a:cubicBezTo>
                  <a:pt x="19098" y="16619"/>
                  <a:pt x="19054" y="16776"/>
                  <a:pt x="19025" y="16942"/>
                </a:cubicBezTo>
                <a:cubicBezTo>
                  <a:pt x="19256" y="16851"/>
                  <a:pt x="19466" y="16791"/>
                  <a:pt x="19720" y="16743"/>
                </a:cubicBezTo>
                <a:cubicBezTo>
                  <a:pt x="20387" y="16617"/>
                  <a:pt x="21057" y="16512"/>
                  <a:pt x="21729" y="16421"/>
                </a:cubicBezTo>
                <a:cubicBezTo>
                  <a:pt x="21991" y="16386"/>
                  <a:pt x="22264" y="16360"/>
                  <a:pt x="22523" y="16321"/>
                </a:cubicBezTo>
                <a:cubicBezTo>
                  <a:pt x="22571" y="16314"/>
                  <a:pt x="22577" y="16335"/>
                  <a:pt x="22597" y="16297"/>
                </a:cubicBezTo>
                <a:cubicBezTo>
                  <a:pt x="22680" y="16139"/>
                  <a:pt x="22654" y="15792"/>
                  <a:pt x="22647" y="15627"/>
                </a:cubicBezTo>
                <a:cubicBezTo>
                  <a:pt x="22639" y="15445"/>
                  <a:pt x="22602" y="15277"/>
                  <a:pt x="22572" y="15106"/>
                </a:cubicBezTo>
                <a:cubicBezTo>
                  <a:pt x="22572" y="15098"/>
                  <a:pt x="22572" y="15089"/>
                  <a:pt x="22572" y="15081"/>
                </a:cubicBezTo>
                <a:cubicBezTo>
                  <a:pt x="22444" y="15090"/>
                  <a:pt x="22165" y="15114"/>
                  <a:pt x="22027" y="15131"/>
                </a:cubicBezTo>
                <a:cubicBezTo>
                  <a:pt x="21604" y="15182"/>
                  <a:pt x="21185" y="15256"/>
                  <a:pt x="20762" y="15304"/>
                </a:cubicBezTo>
                <a:cubicBezTo>
                  <a:pt x="20471" y="15337"/>
                  <a:pt x="20183" y="15356"/>
                  <a:pt x="19893" y="15379"/>
                </a:cubicBezTo>
                <a:cubicBezTo>
                  <a:pt x="19555" y="15406"/>
                  <a:pt x="19180" y="15429"/>
                  <a:pt x="18852" y="15528"/>
                </a:cubicBezTo>
                <a:cubicBezTo>
                  <a:pt x="18810" y="15528"/>
                  <a:pt x="18794" y="15520"/>
                  <a:pt x="18802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5214960" y="6126120"/>
            <a:ext cx="492120" cy="285840"/>
          </a:xfrm>
          <a:custGeom>
            <a:avLst/>
            <a:gdLst/>
            <a:ahLst/>
            <a:rect l="l" t="t" r="r" b="b"/>
            <a:pathLst>
              <a:path w="1365" h="795">
                <a:moveTo>
                  <a:pt x="14585" y="17016"/>
                </a:moveTo>
                <a:cubicBezTo>
                  <a:pt x="14555" y="17164"/>
                  <a:pt x="14503" y="17334"/>
                  <a:pt x="14486" y="17487"/>
                </a:cubicBezTo>
                <a:cubicBezTo>
                  <a:pt x="14476" y="17578"/>
                  <a:pt x="14478" y="17684"/>
                  <a:pt x="14511" y="17760"/>
                </a:cubicBezTo>
                <a:cubicBezTo>
                  <a:pt x="14672" y="17770"/>
                  <a:pt x="14808" y="17756"/>
                  <a:pt x="14883" y="17587"/>
                </a:cubicBezTo>
                <a:cubicBezTo>
                  <a:pt x="14913" y="17518"/>
                  <a:pt x="14926" y="17445"/>
                  <a:pt x="14908" y="17388"/>
                </a:cubicBezTo>
                <a:cubicBezTo>
                  <a:pt x="14776" y="17410"/>
                  <a:pt x="14697" y="17490"/>
                  <a:pt x="14684" y="17636"/>
                </a:cubicBezTo>
                <a:cubicBezTo>
                  <a:pt x="14677" y="17716"/>
                  <a:pt x="14704" y="17783"/>
                  <a:pt x="14759" y="17810"/>
                </a:cubicBezTo>
              </a:path>
              <a:path w="1365" h="795">
                <a:moveTo>
                  <a:pt x="15230" y="17636"/>
                </a:moveTo>
                <a:cubicBezTo>
                  <a:pt x="15230" y="17700"/>
                  <a:pt x="15201" y="17828"/>
                  <a:pt x="15255" y="17686"/>
                </a:cubicBezTo>
              </a:path>
              <a:path w="1365" h="795">
                <a:moveTo>
                  <a:pt x="15677" y="17190"/>
                </a:moveTo>
                <a:cubicBezTo>
                  <a:pt x="15618" y="17198"/>
                  <a:pt x="15521" y="17198"/>
                  <a:pt x="15503" y="17239"/>
                </a:cubicBezTo>
                <a:cubicBezTo>
                  <a:pt x="15457" y="17352"/>
                  <a:pt x="15441" y="17382"/>
                  <a:pt x="15453" y="17462"/>
                </a:cubicBezTo>
                <a:cubicBezTo>
                  <a:pt x="15533" y="17443"/>
                  <a:pt x="15578" y="17363"/>
                  <a:pt x="15677" y="17363"/>
                </a:cubicBezTo>
                <a:cubicBezTo>
                  <a:pt x="15848" y="17363"/>
                  <a:pt x="15865" y="17521"/>
                  <a:pt x="15801" y="17636"/>
                </a:cubicBezTo>
                <a:cubicBezTo>
                  <a:pt x="15739" y="17747"/>
                  <a:pt x="15614" y="17800"/>
                  <a:pt x="1552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5848200" y="6143760"/>
            <a:ext cx="411480" cy="22356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17264" y="17264"/>
                </a:moveTo>
                <a:cubicBezTo>
                  <a:pt x="17264" y="17215"/>
                  <a:pt x="17278" y="17154"/>
                  <a:pt x="17239" y="17115"/>
                </a:cubicBezTo>
                <a:cubicBezTo>
                  <a:pt x="17180" y="17055"/>
                  <a:pt x="17009" y="17042"/>
                  <a:pt x="16942" y="17090"/>
                </a:cubicBezTo>
                <a:cubicBezTo>
                  <a:pt x="16883" y="17133"/>
                  <a:pt x="16856" y="17227"/>
                  <a:pt x="16842" y="17289"/>
                </a:cubicBezTo>
                <a:cubicBezTo>
                  <a:pt x="16980" y="17344"/>
                  <a:pt x="17097" y="17316"/>
                  <a:pt x="17239" y="17338"/>
                </a:cubicBezTo>
                <a:cubicBezTo>
                  <a:pt x="17382" y="17360"/>
                  <a:pt x="17423" y="17500"/>
                  <a:pt x="17338" y="17611"/>
                </a:cubicBezTo>
                <a:cubicBezTo>
                  <a:pt x="17275" y="17693"/>
                  <a:pt x="17071" y="17726"/>
                  <a:pt x="16991" y="17661"/>
                </a:cubicBezTo>
                <a:cubicBezTo>
                  <a:pt x="16971" y="17621"/>
                  <a:pt x="16973" y="17604"/>
                  <a:pt x="16942" y="17611"/>
                </a:cubicBezTo>
              </a:path>
              <a:path w="1142" h="621">
                <a:moveTo>
                  <a:pt x="16272" y="17338"/>
                </a:moveTo>
                <a:cubicBezTo>
                  <a:pt x="16350" y="17319"/>
                  <a:pt x="16413" y="17289"/>
                  <a:pt x="16495" y="17289"/>
                </a:cubicBezTo>
              </a:path>
              <a:path w="1142" h="621">
                <a:moveTo>
                  <a:pt x="16247" y="17562"/>
                </a:moveTo>
                <a:cubicBezTo>
                  <a:pt x="16287" y="17559"/>
                  <a:pt x="16518" y="17537"/>
                  <a:pt x="16470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7120" y="5010120"/>
            <a:ext cx="714600" cy="1535040"/>
          </a:xfrm>
          <a:custGeom>
            <a:avLst/>
            <a:gdLst/>
            <a:ahLst/>
            <a:rect l="l" t="t" r="r" b="b"/>
            <a:pathLst>
              <a:path w="1986" h="4268">
                <a:moveTo>
                  <a:pt x="1215" y="14808"/>
                </a:moveTo>
                <a:cubicBezTo>
                  <a:pt x="1207" y="14808"/>
                  <a:pt x="1199" y="14808"/>
                  <a:pt x="1191" y="14808"/>
                </a:cubicBezTo>
              </a:path>
              <a:path w="1986" h="4268">
                <a:moveTo>
                  <a:pt x="2902" y="18083"/>
                </a:moveTo>
                <a:cubicBezTo>
                  <a:pt x="2930" y="18153"/>
                  <a:pt x="2915" y="18167"/>
                  <a:pt x="2977" y="18182"/>
                </a:cubicBezTo>
              </a:path>
              <a:path w="1986" h="4268">
                <a:moveTo>
                  <a:pt x="992" y="14089"/>
                </a:moveTo>
                <a:cubicBezTo>
                  <a:pt x="1053" y="13997"/>
                  <a:pt x="1095" y="13972"/>
                  <a:pt x="1191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66840" y="5089680"/>
            <a:ext cx="669960" cy="1420560"/>
          </a:xfrm>
          <a:custGeom>
            <a:avLst/>
            <a:gdLst/>
            <a:ahLst/>
            <a:rect l="l" t="t" r="r" b="b"/>
            <a:pathLst>
              <a:path w="1861" h="3945">
                <a:moveTo>
                  <a:pt x="1588" y="15131"/>
                </a:moveTo>
                <a:cubicBezTo>
                  <a:pt x="1496" y="15261"/>
                  <a:pt x="1470" y="15439"/>
                  <a:pt x="1538" y="15602"/>
                </a:cubicBezTo>
                <a:cubicBezTo>
                  <a:pt x="1546" y="15610"/>
                  <a:pt x="1555" y="15619"/>
                  <a:pt x="1563" y="15627"/>
                </a:cubicBezTo>
                <a:cubicBezTo>
                  <a:pt x="1730" y="15529"/>
                  <a:pt x="1759" y="15417"/>
                  <a:pt x="1662" y="15230"/>
                </a:cubicBezTo>
                <a:cubicBezTo>
                  <a:pt x="1624" y="15156"/>
                  <a:pt x="1604" y="15174"/>
                  <a:pt x="1563" y="15205"/>
                </a:cubicBezTo>
              </a:path>
              <a:path w="1861" h="3945">
                <a:moveTo>
                  <a:pt x="1736" y="15925"/>
                </a:moveTo>
                <a:cubicBezTo>
                  <a:pt x="1736" y="16036"/>
                  <a:pt x="1798" y="16118"/>
                  <a:pt x="1836" y="16222"/>
                </a:cubicBezTo>
                <a:cubicBezTo>
                  <a:pt x="1900" y="16398"/>
                  <a:pt x="1967" y="16569"/>
                  <a:pt x="2034" y="16743"/>
                </a:cubicBezTo>
                <a:cubicBezTo>
                  <a:pt x="2060" y="16811"/>
                  <a:pt x="2076" y="16872"/>
                  <a:pt x="2084" y="16942"/>
                </a:cubicBezTo>
              </a:path>
              <a:path w="1861" h="3945">
                <a:moveTo>
                  <a:pt x="2257" y="17363"/>
                </a:moveTo>
                <a:cubicBezTo>
                  <a:pt x="2257" y="17293"/>
                  <a:pt x="2253" y="17496"/>
                  <a:pt x="2257" y="17512"/>
                </a:cubicBezTo>
                <a:cubicBezTo>
                  <a:pt x="2290" y="17657"/>
                  <a:pt x="2437" y="17563"/>
                  <a:pt x="2480" y="17487"/>
                </a:cubicBezTo>
                <a:cubicBezTo>
                  <a:pt x="2559" y="17346"/>
                  <a:pt x="2443" y="17297"/>
                  <a:pt x="2332" y="17289"/>
                </a:cubicBezTo>
                <a:cubicBezTo>
                  <a:pt x="2274" y="17289"/>
                  <a:pt x="2265" y="17289"/>
                  <a:pt x="2232" y="17289"/>
                </a:cubicBezTo>
              </a:path>
              <a:path w="1861" h="3945">
                <a:moveTo>
                  <a:pt x="1191" y="14263"/>
                </a:moveTo>
                <a:cubicBezTo>
                  <a:pt x="1263" y="14234"/>
                  <a:pt x="1257" y="14211"/>
                  <a:pt x="1290" y="14139"/>
                </a:cubicBezTo>
                <a:cubicBezTo>
                  <a:pt x="1290" y="14272"/>
                  <a:pt x="1287" y="14346"/>
                  <a:pt x="1215" y="14461"/>
                </a:cubicBezTo>
                <a:cubicBezTo>
                  <a:pt x="1234" y="14403"/>
                  <a:pt x="1343" y="14339"/>
                  <a:pt x="1389" y="14461"/>
                </a:cubicBezTo>
                <a:cubicBezTo>
                  <a:pt x="1455" y="14637"/>
                  <a:pt x="1270" y="14691"/>
                  <a:pt x="1240" y="14784"/>
                </a:cubicBezTo>
                <a:cubicBezTo>
                  <a:pt x="1248" y="14784"/>
                  <a:pt x="1257" y="14784"/>
                  <a:pt x="1265" y="14784"/>
                </a:cubicBezTo>
              </a:path>
              <a:path w="1861" h="3945">
                <a:moveTo>
                  <a:pt x="1116" y="14759"/>
                </a:moveTo>
                <a:cubicBezTo>
                  <a:pt x="1060" y="14759"/>
                  <a:pt x="1041" y="14744"/>
                  <a:pt x="1017" y="14808"/>
                </a:cubicBezTo>
                <a:cubicBezTo>
                  <a:pt x="996" y="14864"/>
                  <a:pt x="1038" y="14801"/>
                  <a:pt x="1042" y="14784"/>
                </a:cubicBezTo>
                <a:cubicBezTo>
                  <a:pt x="1022" y="14824"/>
                  <a:pt x="1013" y="14830"/>
                  <a:pt x="1017" y="14858"/>
                </a:cubicBezTo>
                <a:cubicBezTo>
                  <a:pt x="1055" y="14845"/>
                  <a:pt x="1038" y="14833"/>
                  <a:pt x="1091" y="14833"/>
                </a:cubicBezTo>
              </a:path>
              <a:path w="1861" h="3945">
                <a:moveTo>
                  <a:pt x="2604" y="17611"/>
                </a:moveTo>
                <a:cubicBezTo>
                  <a:pt x="2558" y="17602"/>
                  <a:pt x="2472" y="17553"/>
                  <a:pt x="2431" y="17611"/>
                </a:cubicBezTo>
                <a:cubicBezTo>
                  <a:pt x="2409" y="17678"/>
                  <a:pt x="2404" y="17696"/>
                  <a:pt x="2381" y="17735"/>
                </a:cubicBezTo>
                <a:cubicBezTo>
                  <a:pt x="2476" y="17720"/>
                  <a:pt x="2499" y="17703"/>
                  <a:pt x="2530" y="17611"/>
                </a:cubicBezTo>
                <a:cubicBezTo>
                  <a:pt x="2563" y="17661"/>
                  <a:pt x="2598" y="17723"/>
                  <a:pt x="2604" y="17785"/>
                </a:cubicBezTo>
                <a:cubicBezTo>
                  <a:pt x="2604" y="17793"/>
                  <a:pt x="2604" y="17802"/>
                  <a:pt x="2604" y="17810"/>
                </a:cubicBezTo>
              </a:path>
              <a:path w="1861" h="3945">
                <a:moveTo>
                  <a:pt x="2257" y="18083"/>
                </a:moveTo>
                <a:cubicBezTo>
                  <a:pt x="2421" y="18015"/>
                  <a:pt x="2584" y="17938"/>
                  <a:pt x="2753" y="17884"/>
                </a:cubicBezTo>
                <a:cubicBezTo>
                  <a:pt x="2827" y="17865"/>
                  <a:pt x="2834" y="17857"/>
                  <a:pt x="2877" y="17859"/>
                </a:cubicBezTo>
              </a:path>
              <a:path w="1861" h="3945">
                <a:moveTo>
                  <a:pt x="2108" y="17810"/>
                </a:moveTo>
                <a:cubicBezTo>
                  <a:pt x="2108" y="17764"/>
                  <a:pt x="2196" y="17785"/>
                  <a:pt x="2232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9360" y="5160960"/>
            <a:ext cx="2116440" cy="1447920"/>
          </a:xfrm>
          <a:custGeom>
            <a:avLst/>
            <a:gdLst/>
            <a:ahLst/>
            <a:rect l="l" t="t" r="r" b="b"/>
            <a:pathLst>
              <a:path w="5880" h="4019">
                <a:moveTo>
                  <a:pt x="2778" y="15056"/>
                </a:moveTo>
                <a:cubicBezTo>
                  <a:pt x="2705" y="15056"/>
                  <a:pt x="2634" y="15077"/>
                  <a:pt x="2580" y="15131"/>
                </a:cubicBezTo>
                <a:cubicBezTo>
                  <a:pt x="2503" y="15208"/>
                  <a:pt x="2493" y="15285"/>
                  <a:pt x="2456" y="15379"/>
                </a:cubicBezTo>
                <a:cubicBezTo>
                  <a:pt x="2555" y="15362"/>
                  <a:pt x="2695" y="15306"/>
                  <a:pt x="2778" y="15404"/>
                </a:cubicBezTo>
                <a:cubicBezTo>
                  <a:pt x="2875" y="15519"/>
                  <a:pt x="2696" y="15781"/>
                  <a:pt x="2555" y="15701"/>
                </a:cubicBezTo>
                <a:cubicBezTo>
                  <a:pt x="2530" y="15627"/>
                  <a:pt x="2522" y="15602"/>
                  <a:pt x="2555" y="15553"/>
                </a:cubicBezTo>
              </a:path>
              <a:path w="5880" h="4019">
                <a:moveTo>
                  <a:pt x="3101" y="15379"/>
                </a:moveTo>
                <a:cubicBezTo>
                  <a:pt x="3125" y="15379"/>
                  <a:pt x="3134" y="15379"/>
                  <a:pt x="3150" y="15379"/>
                </a:cubicBezTo>
              </a:path>
              <a:path w="5880" h="4019">
                <a:moveTo>
                  <a:pt x="3572" y="15081"/>
                </a:moveTo>
                <a:cubicBezTo>
                  <a:pt x="3511" y="15098"/>
                  <a:pt x="3265" y="15190"/>
                  <a:pt x="3299" y="15304"/>
                </a:cubicBezTo>
                <a:cubicBezTo>
                  <a:pt x="3364" y="15523"/>
                  <a:pt x="3559" y="15440"/>
                  <a:pt x="3448" y="15701"/>
                </a:cubicBezTo>
                <a:cubicBezTo>
                  <a:pt x="3415" y="15701"/>
                  <a:pt x="3382" y="15701"/>
                  <a:pt x="3349" y="15701"/>
                </a:cubicBezTo>
                <a:cubicBezTo>
                  <a:pt x="3390" y="15474"/>
                  <a:pt x="3541" y="15365"/>
                  <a:pt x="3621" y="15156"/>
                </a:cubicBezTo>
                <a:cubicBezTo>
                  <a:pt x="3597" y="15156"/>
                  <a:pt x="3588" y="15156"/>
                  <a:pt x="3572" y="15156"/>
                </a:cubicBezTo>
              </a:path>
              <a:path w="5880" h="4019">
                <a:moveTo>
                  <a:pt x="2505" y="16073"/>
                </a:moveTo>
                <a:cubicBezTo>
                  <a:pt x="2499" y="16149"/>
                  <a:pt x="2488" y="16221"/>
                  <a:pt x="2480" y="16297"/>
                </a:cubicBezTo>
                <a:cubicBezTo>
                  <a:pt x="2680" y="16345"/>
                  <a:pt x="2798" y="16287"/>
                  <a:pt x="2977" y="16197"/>
                </a:cubicBezTo>
              </a:path>
              <a:path w="5880" h="4019">
                <a:moveTo>
                  <a:pt x="2853" y="15999"/>
                </a:moveTo>
                <a:cubicBezTo>
                  <a:pt x="2853" y="16176"/>
                  <a:pt x="2844" y="16345"/>
                  <a:pt x="2828" y="16520"/>
                </a:cubicBezTo>
                <a:cubicBezTo>
                  <a:pt x="2828" y="16572"/>
                  <a:pt x="2829" y="16587"/>
                  <a:pt x="2853" y="16520"/>
                </a:cubicBezTo>
              </a:path>
              <a:path w="5880" h="4019">
                <a:moveTo>
                  <a:pt x="3175" y="15949"/>
                </a:moveTo>
                <a:cubicBezTo>
                  <a:pt x="3088" y="16145"/>
                  <a:pt x="3056" y="16282"/>
                  <a:pt x="3076" y="16495"/>
                </a:cubicBezTo>
                <a:cubicBezTo>
                  <a:pt x="3245" y="16506"/>
                  <a:pt x="3468" y="16450"/>
                  <a:pt x="3473" y="16222"/>
                </a:cubicBezTo>
                <a:cubicBezTo>
                  <a:pt x="3477" y="16044"/>
                  <a:pt x="3257" y="16055"/>
                  <a:pt x="3200" y="15974"/>
                </a:cubicBezTo>
              </a:path>
              <a:path w="5880" h="4019">
                <a:moveTo>
                  <a:pt x="3746" y="16222"/>
                </a:moveTo>
                <a:cubicBezTo>
                  <a:pt x="3847" y="16207"/>
                  <a:pt x="3939" y="16197"/>
                  <a:pt x="4043" y="16197"/>
                </a:cubicBezTo>
              </a:path>
              <a:path w="5880" h="4019">
                <a:moveTo>
                  <a:pt x="3746" y="16421"/>
                </a:moveTo>
                <a:cubicBezTo>
                  <a:pt x="3853" y="16454"/>
                  <a:pt x="3932" y="16432"/>
                  <a:pt x="4043" y="16421"/>
                </a:cubicBezTo>
              </a:path>
              <a:path w="5880" h="4019">
                <a:moveTo>
                  <a:pt x="4415" y="15949"/>
                </a:moveTo>
                <a:cubicBezTo>
                  <a:pt x="4338" y="15949"/>
                  <a:pt x="4513" y="15962"/>
                  <a:pt x="4589" y="15974"/>
                </a:cubicBezTo>
                <a:cubicBezTo>
                  <a:pt x="4666" y="15994"/>
                  <a:pt x="4684" y="15986"/>
                  <a:pt x="4713" y="16024"/>
                </a:cubicBezTo>
                <a:cubicBezTo>
                  <a:pt x="4667" y="16115"/>
                  <a:pt x="4599" y="16275"/>
                  <a:pt x="4514" y="16247"/>
                </a:cubicBezTo>
                <a:cubicBezTo>
                  <a:pt x="4616" y="16196"/>
                  <a:pt x="4653" y="16209"/>
                  <a:pt x="4762" y="16222"/>
                </a:cubicBezTo>
                <a:cubicBezTo>
                  <a:pt x="4763" y="16419"/>
                  <a:pt x="4656" y="16447"/>
                  <a:pt x="4465" y="16470"/>
                </a:cubicBezTo>
                <a:cubicBezTo>
                  <a:pt x="4422" y="16470"/>
                  <a:pt x="4420" y="16453"/>
                  <a:pt x="4465" y="16396"/>
                </a:cubicBezTo>
              </a:path>
              <a:path w="5880" h="4019">
                <a:moveTo>
                  <a:pt x="5184" y="16098"/>
                </a:moveTo>
                <a:cubicBezTo>
                  <a:pt x="5184" y="16058"/>
                  <a:pt x="5168" y="15998"/>
                  <a:pt x="5110" y="16024"/>
                </a:cubicBezTo>
                <a:cubicBezTo>
                  <a:pt x="4941" y="16099"/>
                  <a:pt x="4934" y="16377"/>
                  <a:pt x="5135" y="16421"/>
                </a:cubicBezTo>
                <a:cubicBezTo>
                  <a:pt x="5254" y="16397"/>
                  <a:pt x="5291" y="16391"/>
                  <a:pt x="5358" y="16346"/>
                </a:cubicBezTo>
              </a:path>
              <a:path w="5880" h="4019">
                <a:moveTo>
                  <a:pt x="4366" y="16619"/>
                </a:moveTo>
                <a:cubicBezTo>
                  <a:pt x="4274" y="16573"/>
                  <a:pt x="4512" y="16587"/>
                  <a:pt x="4614" y="16570"/>
                </a:cubicBezTo>
                <a:cubicBezTo>
                  <a:pt x="4762" y="16545"/>
                  <a:pt x="5137" y="16387"/>
                  <a:pt x="5283" y="16470"/>
                </a:cubicBezTo>
                <a:cubicBezTo>
                  <a:pt x="5283" y="16495"/>
                  <a:pt x="5283" y="16503"/>
                  <a:pt x="5283" y="16520"/>
                </a:cubicBezTo>
              </a:path>
              <a:path w="5880" h="4019">
                <a:moveTo>
                  <a:pt x="2530" y="16718"/>
                </a:moveTo>
                <a:cubicBezTo>
                  <a:pt x="2627" y="16767"/>
                  <a:pt x="2955" y="16642"/>
                  <a:pt x="3076" y="16619"/>
                </a:cubicBezTo>
                <a:cubicBezTo>
                  <a:pt x="3168" y="16602"/>
                  <a:pt x="3637" y="16478"/>
                  <a:pt x="3746" y="16545"/>
                </a:cubicBezTo>
                <a:cubicBezTo>
                  <a:pt x="3762" y="16561"/>
                  <a:pt x="3779" y="16578"/>
                  <a:pt x="3795" y="16594"/>
                </a:cubicBezTo>
              </a:path>
              <a:path w="5880" h="4019">
                <a:moveTo>
                  <a:pt x="4589" y="16768"/>
                </a:moveTo>
                <a:cubicBezTo>
                  <a:pt x="4640" y="16759"/>
                  <a:pt x="4924" y="16683"/>
                  <a:pt x="4887" y="16793"/>
                </a:cubicBezTo>
                <a:cubicBezTo>
                  <a:pt x="4864" y="16862"/>
                  <a:pt x="4792" y="16893"/>
                  <a:pt x="4762" y="16942"/>
                </a:cubicBezTo>
                <a:cubicBezTo>
                  <a:pt x="4867" y="16902"/>
                  <a:pt x="4888" y="16925"/>
                  <a:pt x="4986" y="16966"/>
                </a:cubicBezTo>
                <a:cubicBezTo>
                  <a:pt x="4912" y="17153"/>
                  <a:pt x="4863" y="17164"/>
                  <a:pt x="4663" y="17140"/>
                </a:cubicBezTo>
              </a:path>
              <a:path w="5880" h="4019">
                <a:moveTo>
                  <a:pt x="2977" y="16867"/>
                </a:moveTo>
                <a:cubicBezTo>
                  <a:pt x="3095" y="16841"/>
                  <a:pt x="3182" y="16827"/>
                  <a:pt x="3299" y="16842"/>
                </a:cubicBezTo>
                <a:cubicBezTo>
                  <a:pt x="3171" y="16971"/>
                  <a:pt x="3128" y="16945"/>
                  <a:pt x="3225" y="16991"/>
                </a:cubicBezTo>
                <a:cubicBezTo>
                  <a:pt x="3333" y="17056"/>
                  <a:pt x="3359" y="17071"/>
                  <a:pt x="3423" y="17115"/>
                </a:cubicBezTo>
                <a:cubicBezTo>
                  <a:pt x="3413" y="17128"/>
                  <a:pt x="3114" y="17393"/>
                  <a:pt x="3101" y="17289"/>
                </a:cubicBezTo>
                <a:cubicBezTo>
                  <a:pt x="3109" y="17248"/>
                  <a:pt x="3117" y="17206"/>
                  <a:pt x="3125" y="17165"/>
                </a:cubicBezTo>
              </a:path>
              <a:path w="5880" h="4019">
                <a:moveTo>
                  <a:pt x="4465" y="15900"/>
                </a:moveTo>
                <a:cubicBezTo>
                  <a:pt x="4489" y="16182"/>
                  <a:pt x="4559" y="16402"/>
                  <a:pt x="4638" y="16669"/>
                </a:cubicBezTo>
                <a:cubicBezTo>
                  <a:pt x="4681" y="16815"/>
                  <a:pt x="4741" y="17050"/>
                  <a:pt x="4762" y="17165"/>
                </a:cubicBezTo>
                <a:cubicBezTo>
                  <a:pt x="4762" y="17193"/>
                  <a:pt x="4764" y="17199"/>
                  <a:pt x="4787" y="17165"/>
                </a:cubicBezTo>
              </a:path>
              <a:path w="5880" h="4019">
                <a:moveTo>
                  <a:pt x="5283" y="17537"/>
                </a:moveTo>
                <a:cubicBezTo>
                  <a:pt x="5283" y="17579"/>
                  <a:pt x="5203" y="17440"/>
                  <a:pt x="5159" y="17413"/>
                </a:cubicBezTo>
                <a:cubicBezTo>
                  <a:pt x="5134" y="17405"/>
                  <a:pt x="5110" y="17396"/>
                  <a:pt x="5085" y="17388"/>
                </a:cubicBezTo>
                <a:cubicBezTo>
                  <a:pt x="4967" y="17506"/>
                  <a:pt x="4799" y="17767"/>
                  <a:pt x="5011" y="17909"/>
                </a:cubicBezTo>
                <a:cubicBezTo>
                  <a:pt x="5133" y="17991"/>
                  <a:pt x="5367" y="17884"/>
                  <a:pt x="5383" y="17810"/>
                </a:cubicBezTo>
              </a:path>
              <a:path w="5880" h="4019">
                <a:moveTo>
                  <a:pt x="595" y="15304"/>
                </a:moveTo>
                <a:cubicBezTo>
                  <a:pt x="595" y="15262"/>
                  <a:pt x="551" y="15517"/>
                  <a:pt x="546" y="15553"/>
                </a:cubicBezTo>
                <a:cubicBezTo>
                  <a:pt x="546" y="15569"/>
                  <a:pt x="546" y="15586"/>
                  <a:pt x="546" y="15602"/>
                </a:cubicBezTo>
                <a:cubicBezTo>
                  <a:pt x="708" y="15587"/>
                  <a:pt x="794" y="15551"/>
                  <a:pt x="918" y="15453"/>
                </a:cubicBezTo>
              </a:path>
              <a:path w="5880" h="4019">
                <a:moveTo>
                  <a:pt x="893" y="15156"/>
                </a:moveTo>
                <a:cubicBezTo>
                  <a:pt x="898" y="15267"/>
                  <a:pt x="876" y="15769"/>
                  <a:pt x="943" y="15825"/>
                </a:cubicBezTo>
                <a:cubicBezTo>
                  <a:pt x="959" y="15800"/>
                  <a:pt x="976" y="15776"/>
                  <a:pt x="992" y="15751"/>
                </a:cubicBezTo>
              </a:path>
              <a:path w="5880" h="4019">
                <a:moveTo>
                  <a:pt x="1141" y="15106"/>
                </a:moveTo>
                <a:cubicBezTo>
                  <a:pt x="1118" y="15271"/>
                  <a:pt x="1049" y="15617"/>
                  <a:pt x="1265" y="15701"/>
                </a:cubicBezTo>
                <a:cubicBezTo>
                  <a:pt x="1306" y="15693"/>
                  <a:pt x="1348" y="15685"/>
                  <a:pt x="1389" y="15677"/>
                </a:cubicBezTo>
                <a:cubicBezTo>
                  <a:pt x="1402" y="15525"/>
                  <a:pt x="1442" y="15169"/>
                  <a:pt x="1191" y="15156"/>
                </a:cubicBezTo>
                <a:cubicBezTo>
                  <a:pt x="1091" y="15196"/>
                  <a:pt x="1061" y="15189"/>
                  <a:pt x="1042" y="15255"/>
                </a:cubicBezTo>
              </a:path>
              <a:path w="5880" h="4019">
                <a:moveTo>
                  <a:pt x="769" y="16049"/>
                </a:moveTo>
                <a:cubicBezTo>
                  <a:pt x="759" y="15916"/>
                  <a:pt x="739" y="15846"/>
                  <a:pt x="670" y="15726"/>
                </a:cubicBezTo>
                <a:cubicBezTo>
                  <a:pt x="613" y="15626"/>
                  <a:pt x="535" y="15519"/>
                  <a:pt x="471" y="15429"/>
                </a:cubicBezTo>
                <a:cubicBezTo>
                  <a:pt x="427" y="15367"/>
                  <a:pt x="444" y="15354"/>
                  <a:pt x="422" y="15280"/>
                </a:cubicBezTo>
                <a:cubicBezTo>
                  <a:pt x="403" y="15215"/>
                  <a:pt x="393" y="15231"/>
                  <a:pt x="372" y="15205"/>
                </a:cubicBezTo>
                <a:cubicBezTo>
                  <a:pt x="576" y="15173"/>
                  <a:pt x="767" y="15141"/>
                  <a:pt x="967" y="15081"/>
                </a:cubicBezTo>
                <a:cubicBezTo>
                  <a:pt x="1183" y="15016"/>
                  <a:pt x="1394" y="14937"/>
                  <a:pt x="1612" y="14883"/>
                </a:cubicBezTo>
              </a:path>
              <a:path w="5880" h="4019">
                <a:moveTo>
                  <a:pt x="50" y="15652"/>
                </a:moveTo>
                <a:cubicBezTo>
                  <a:pt x="-1" y="15601"/>
                  <a:pt x="129" y="15528"/>
                  <a:pt x="198" y="15503"/>
                </a:cubicBezTo>
                <a:cubicBezTo>
                  <a:pt x="206" y="15503"/>
                  <a:pt x="215" y="15503"/>
                  <a:pt x="223" y="15503"/>
                </a:cubicBezTo>
                <a:cubicBezTo>
                  <a:pt x="270" y="15612"/>
                  <a:pt x="226" y="15670"/>
                  <a:pt x="174" y="15776"/>
                </a:cubicBezTo>
                <a:cubicBezTo>
                  <a:pt x="267" y="15757"/>
                  <a:pt x="359" y="15665"/>
                  <a:pt x="422" y="15801"/>
                </a:cubicBezTo>
                <a:cubicBezTo>
                  <a:pt x="461" y="15885"/>
                  <a:pt x="355" y="16101"/>
                  <a:pt x="248" y="16073"/>
                </a:cubicBezTo>
                <a:cubicBezTo>
                  <a:pt x="248" y="16049"/>
                  <a:pt x="248" y="16041"/>
                  <a:pt x="223" y="16049"/>
                </a:cubicBezTo>
              </a:path>
              <a:path w="5880" h="4019">
                <a:moveTo>
                  <a:pt x="372" y="14461"/>
                </a:moveTo>
                <a:cubicBezTo>
                  <a:pt x="409" y="14607"/>
                  <a:pt x="456" y="14760"/>
                  <a:pt x="496" y="14908"/>
                </a:cubicBezTo>
                <a:cubicBezTo>
                  <a:pt x="521" y="14982"/>
                  <a:pt x="529" y="15007"/>
                  <a:pt x="546" y="15056"/>
                </a:cubicBezTo>
              </a:path>
              <a:path w="5880" h="4019">
                <a:moveTo>
                  <a:pt x="918" y="16049"/>
                </a:moveTo>
                <a:cubicBezTo>
                  <a:pt x="886" y="16017"/>
                  <a:pt x="958" y="15916"/>
                  <a:pt x="1017" y="15875"/>
                </a:cubicBezTo>
                <a:cubicBezTo>
                  <a:pt x="1042" y="15875"/>
                  <a:pt x="1050" y="15875"/>
                  <a:pt x="1067" y="15875"/>
                </a:cubicBezTo>
                <a:cubicBezTo>
                  <a:pt x="1090" y="15948"/>
                  <a:pt x="1108" y="16041"/>
                  <a:pt x="1042" y="16098"/>
                </a:cubicBezTo>
                <a:cubicBezTo>
                  <a:pt x="1017" y="16098"/>
                  <a:pt x="1009" y="16098"/>
                  <a:pt x="1017" y="16073"/>
                </a:cubicBezTo>
                <a:cubicBezTo>
                  <a:pt x="1086" y="16046"/>
                  <a:pt x="1191" y="15981"/>
                  <a:pt x="1191" y="16123"/>
                </a:cubicBezTo>
                <a:cubicBezTo>
                  <a:pt x="1191" y="16191"/>
                  <a:pt x="1129" y="16284"/>
                  <a:pt x="1067" y="16297"/>
                </a:cubicBezTo>
                <a:cubicBezTo>
                  <a:pt x="1059" y="16297"/>
                  <a:pt x="1050" y="16297"/>
                  <a:pt x="1042" y="16297"/>
                </a:cubicBezTo>
              </a:path>
              <a:path w="5880" h="4019">
                <a:moveTo>
                  <a:pt x="670" y="16247"/>
                </a:moveTo>
                <a:cubicBezTo>
                  <a:pt x="730" y="16262"/>
                  <a:pt x="723" y="16257"/>
                  <a:pt x="794" y="16247"/>
                </a:cubicBezTo>
              </a:path>
              <a:path w="5880" h="4019">
                <a:moveTo>
                  <a:pt x="868" y="16570"/>
                </a:moveTo>
                <a:cubicBezTo>
                  <a:pt x="1001" y="16525"/>
                  <a:pt x="1127" y="16419"/>
                  <a:pt x="1265" y="16371"/>
                </a:cubicBezTo>
                <a:cubicBezTo>
                  <a:pt x="1346" y="16343"/>
                  <a:pt x="1392" y="16323"/>
                  <a:pt x="1439" y="16346"/>
                </a:cubicBezTo>
              </a:path>
              <a:path w="5880" h="4019">
                <a:moveTo>
                  <a:pt x="1240" y="16570"/>
                </a:moveTo>
                <a:cubicBezTo>
                  <a:pt x="1254" y="16637"/>
                  <a:pt x="1285" y="16704"/>
                  <a:pt x="1315" y="16768"/>
                </a:cubicBezTo>
                <a:cubicBezTo>
                  <a:pt x="1350" y="16844"/>
                  <a:pt x="1315" y="16842"/>
                  <a:pt x="1389" y="16818"/>
                </a:cubicBezTo>
              </a:path>
              <a:path w="5880" h="4019">
                <a:moveTo>
                  <a:pt x="1215" y="15999"/>
                </a:moveTo>
                <a:cubicBezTo>
                  <a:pt x="1246" y="16061"/>
                  <a:pt x="1340" y="16101"/>
                  <a:pt x="1389" y="16173"/>
                </a:cubicBezTo>
                <a:cubicBezTo>
                  <a:pt x="1397" y="16189"/>
                  <a:pt x="1406" y="16206"/>
                  <a:pt x="1414" y="16222"/>
                </a:cubicBezTo>
              </a:path>
              <a:path w="5880" h="4019">
                <a:moveTo>
                  <a:pt x="1290" y="16098"/>
                </a:moveTo>
                <a:cubicBezTo>
                  <a:pt x="1308" y="16126"/>
                  <a:pt x="1360" y="16240"/>
                  <a:pt x="1414" y="16197"/>
                </a:cubicBezTo>
                <a:cubicBezTo>
                  <a:pt x="1473" y="16151"/>
                  <a:pt x="1546" y="16069"/>
                  <a:pt x="1563" y="15999"/>
                </a:cubicBezTo>
              </a:path>
              <a:path w="5880" h="4019">
                <a:moveTo>
                  <a:pt x="1588" y="16396"/>
                </a:moveTo>
                <a:cubicBezTo>
                  <a:pt x="1461" y="16438"/>
                  <a:pt x="1447" y="16539"/>
                  <a:pt x="1463" y="16669"/>
                </a:cubicBezTo>
                <a:cubicBezTo>
                  <a:pt x="1471" y="16694"/>
                  <a:pt x="1480" y="16718"/>
                  <a:pt x="1488" y="16743"/>
                </a:cubicBezTo>
                <a:cubicBezTo>
                  <a:pt x="1609" y="16753"/>
                  <a:pt x="1757" y="16693"/>
                  <a:pt x="1736" y="16520"/>
                </a:cubicBezTo>
                <a:cubicBezTo>
                  <a:pt x="1723" y="16413"/>
                  <a:pt x="1611" y="16421"/>
                  <a:pt x="1538" y="16421"/>
                </a:cubicBezTo>
              </a:path>
              <a:path w="5880" h="4019">
                <a:moveTo>
                  <a:pt x="620" y="14511"/>
                </a:moveTo>
                <a:cubicBezTo>
                  <a:pt x="620" y="14440"/>
                  <a:pt x="660" y="14378"/>
                  <a:pt x="719" y="14337"/>
                </a:cubicBezTo>
                <a:cubicBezTo>
                  <a:pt x="727" y="14337"/>
                  <a:pt x="736" y="14337"/>
                  <a:pt x="744" y="14337"/>
                </a:cubicBezTo>
                <a:cubicBezTo>
                  <a:pt x="836" y="14459"/>
                  <a:pt x="773" y="14548"/>
                  <a:pt x="695" y="14684"/>
                </a:cubicBezTo>
                <a:cubicBezTo>
                  <a:pt x="750" y="14593"/>
                  <a:pt x="874" y="14579"/>
                  <a:pt x="918" y="14709"/>
                </a:cubicBezTo>
                <a:cubicBezTo>
                  <a:pt x="964" y="14846"/>
                  <a:pt x="835" y="14858"/>
                  <a:pt x="794" y="14908"/>
                </a:cubicBezTo>
                <a:cubicBezTo>
                  <a:pt x="794" y="14916"/>
                  <a:pt x="794" y="14924"/>
                  <a:pt x="794" y="14932"/>
                </a:cubicBezTo>
              </a:path>
              <a:path w="5880" h="4019">
                <a:moveTo>
                  <a:pt x="1885" y="16867"/>
                </a:moveTo>
                <a:cubicBezTo>
                  <a:pt x="1838" y="16848"/>
                  <a:pt x="1780" y="16755"/>
                  <a:pt x="1712" y="16793"/>
                </a:cubicBezTo>
                <a:cubicBezTo>
                  <a:pt x="1624" y="16842"/>
                  <a:pt x="1621" y="16907"/>
                  <a:pt x="1612" y="16991"/>
                </a:cubicBezTo>
                <a:cubicBezTo>
                  <a:pt x="1753" y="16966"/>
                  <a:pt x="1793" y="16940"/>
                  <a:pt x="1860" y="16818"/>
                </a:cubicBezTo>
                <a:cubicBezTo>
                  <a:pt x="1888" y="16931"/>
                  <a:pt x="1910" y="17024"/>
                  <a:pt x="1910" y="17140"/>
                </a:cubicBezTo>
                <a:cubicBezTo>
                  <a:pt x="1910" y="17148"/>
                  <a:pt x="1910" y="17157"/>
                  <a:pt x="1910" y="17165"/>
                </a:cubicBezTo>
              </a:path>
              <a:path w="5880" h="4019">
                <a:moveTo>
                  <a:pt x="1389" y="17413"/>
                </a:moveTo>
                <a:cubicBezTo>
                  <a:pt x="1543" y="17387"/>
                  <a:pt x="1687" y="17289"/>
                  <a:pt x="1836" y="17239"/>
                </a:cubicBezTo>
                <a:cubicBezTo>
                  <a:pt x="1983" y="17190"/>
                  <a:pt x="2429" y="17163"/>
                  <a:pt x="2282" y="17115"/>
                </a:cubicBezTo>
                <a:cubicBezTo>
                  <a:pt x="2265" y="17115"/>
                  <a:pt x="2249" y="17115"/>
                  <a:pt x="2232" y="17115"/>
                </a:cubicBezTo>
              </a:path>
              <a:path w="5880" h="4019">
                <a:moveTo>
                  <a:pt x="1240" y="17090"/>
                </a:moveTo>
                <a:cubicBezTo>
                  <a:pt x="1240" y="17010"/>
                  <a:pt x="1258" y="17045"/>
                  <a:pt x="1315" y="17016"/>
                </a:cubicBezTo>
                <a:cubicBezTo>
                  <a:pt x="1349" y="16980"/>
                  <a:pt x="1371" y="16967"/>
                  <a:pt x="1414" y="16966"/>
                </a:cubicBezTo>
              </a:path>
              <a:path w="5880" h="4019">
                <a:moveTo>
                  <a:pt x="2059" y="17388"/>
                </a:moveTo>
                <a:cubicBezTo>
                  <a:pt x="2059" y="17349"/>
                  <a:pt x="2120" y="17557"/>
                  <a:pt x="2133" y="17587"/>
                </a:cubicBezTo>
                <a:cubicBezTo>
                  <a:pt x="2153" y="17627"/>
                  <a:pt x="2162" y="17633"/>
                  <a:pt x="2158" y="17661"/>
                </a:cubicBezTo>
              </a:path>
              <a:path w="5880" h="4019">
                <a:moveTo>
                  <a:pt x="3299" y="17636"/>
                </a:moveTo>
                <a:cubicBezTo>
                  <a:pt x="3307" y="17755"/>
                  <a:pt x="3311" y="17895"/>
                  <a:pt x="3349" y="18008"/>
                </a:cubicBezTo>
                <a:cubicBezTo>
                  <a:pt x="3349" y="18000"/>
                  <a:pt x="3349" y="17991"/>
                  <a:pt x="3349" y="17983"/>
                </a:cubicBezTo>
              </a:path>
              <a:path w="5880" h="4019">
                <a:moveTo>
                  <a:pt x="3497" y="17636"/>
                </a:moveTo>
                <a:cubicBezTo>
                  <a:pt x="3497" y="17565"/>
                  <a:pt x="3528" y="17573"/>
                  <a:pt x="3597" y="17562"/>
                </a:cubicBezTo>
                <a:cubicBezTo>
                  <a:pt x="3583" y="17645"/>
                  <a:pt x="3565" y="17684"/>
                  <a:pt x="3522" y="17760"/>
                </a:cubicBezTo>
                <a:cubicBezTo>
                  <a:pt x="3571" y="17760"/>
                  <a:pt x="3639" y="17751"/>
                  <a:pt x="3646" y="17810"/>
                </a:cubicBezTo>
                <a:cubicBezTo>
                  <a:pt x="3658" y="17909"/>
                  <a:pt x="3614" y="17985"/>
                  <a:pt x="3522" y="18008"/>
                </a:cubicBezTo>
              </a:path>
              <a:path w="5880" h="4019">
                <a:moveTo>
                  <a:pt x="3845" y="17487"/>
                </a:moveTo>
                <a:cubicBezTo>
                  <a:pt x="3845" y="17462"/>
                  <a:pt x="3845" y="17454"/>
                  <a:pt x="3845" y="17438"/>
                </a:cubicBezTo>
                <a:cubicBezTo>
                  <a:pt x="3929" y="17452"/>
                  <a:pt x="3889" y="17470"/>
                  <a:pt x="3870" y="17537"/>
                </a:cubicBezTo>
                <a:cubicBezTo>
                  <a:pt x="3870" y="17545"/>
                  <a:pt x="3870" y="17554"/>
                  <a:pt x="3870" y="17562"/>
                </a:cubicBezTo>
                <a:cubicBezTo>
                  <a:pt x="3947" y="17562"/>
                  <a:pt x="4026" y="17629"/>
                  <a:pt x="3944" y="17711"/>
                </a:cubicBezTo>
                <a:cubicBezTo>
                  <a:pt x="3923" y="17731"/>
                  <a:pt x="3827" y="17754"/>
                  <a:pt x="3795" y="17760"/>
                </a:cubicBezTo>
              </a:path>
              <a:path w="5880" h="4019">
                <a:moveTo>
                  <a:pt x="3845" y="17289"/>
                </a:moveTo>
                <a:cubicBezTo>
                  <a:pt x="3758" y="17260"/>
                  <a:pt x="3901" y="17258"/>
                  <a:pt x="3919" y="17239"/>
                </a:cubicBezTo>
                <a:cubicBezTo>
                  <a:pt x="3956" y="17201"/>
                  <a:pt x="3820" y="17271"/>
                  <a:pt x="3770" y="17289"/>
                </a:cubicBezTo>
                <a:cubicBezTo>
                  <a:pt x="3762" y="17289"/>
                  <a:pt x="3754" y="17289"/>
                  <a:pt x="3746" y="17289"/>
                </a:cubicBezTo>
                <a:cubicBezTo>
                  <a:pt x="3765" y="17286"/>
                  <a:pt x="3887" y="17231"/>
                  <a:pt x="3894" y="17239"/>
                </a:cubicBezTo>
                <a:cubicBezTo>
                  <a:pt x="3894" y="17247"/>
                  <a:pt x="3894" y="17256"/>
                  <a:pt x="3894" y="17264"/>
                </a:cubicBezTo>
              </a:path>
              <a:path w="5880" h="4019">
                <a:moveTo>
                  <a:pt x="4316" y="17066"/>
                </a:moveTo>
                <a:cubicBezTo>
                  <a:pt x="4168" y="17102"/>
                  <a:pt x="4021" y="17129"/>
                  <a:pt x="3870" y="17140"/>
                </a:cubicBezTo>
                <a:cubicBezTo>
                  <a:pt x="3717" y="17152"/>
                  <a:pt x="3590" y="17164"/>
                  <a:pt x="3448" y="17214"/>
                </a:cubicBezTo>
                <a:cubicBezTo>
                  <a:pt x="3348" y="17249"/>
                  <a:pt x="3207" y="17255"/>
                  <a:pt x="3101" y="17264"/>
                </a:cubicBezTo>
                <a:cubicBezTo>
                  <a:pt x="3049" y="17268"/>
                  <a:pt x="3021" y="17275"/>
                  <a:pt x="2977" y="17289"/>
                </a:cubicBezTo>
                <a:cubicBezTo>
                  <a:pt x="2938" y="17302"/>
                  <a:pt x="2938" y="17332"/>
                  <a:pt x="2927" y="17388"/>
                </a:cubicBezTo>
                <a:cubicBezTo>
                  <a:pt x="2891" y="17565"/>
                  <a:pt x="2881" y="17753"/>
                  <a:pt x="2877" y="17934"/>
                </a:cubicBezTo>
                <a:cubicBezTo>
                  <a:pt x="2875" y="18035"/>
                  <a:pt x="2893" y="18147"/>
                  <a:pt x="2902" y="18231"/>
                </a:cubicBezTo>
                <a:cubicBezTo>
                  <a:pt x="2906" y="18272"/>
                  <a:pt x="2899" y="18314"/>
                  <a:pt x="2902" y="18355"/>
                </a:cubicBezTo>
                <a:cubicBezTo>
                  <a:pt x="2975" y="18345"/>
                  <a:pt x="3052" y="18343"/>
                  <a:pt x="3125" y="18331"/>
                </a:cubicBezTo>
                <a:cubicBezTo>
                  <a:pt x="3369" y="18292"/>
                  <a:pt x="3621" y="18213"/>
                  <a:pt x="3870" y="18231"/>
                </a:cubicBezTo>
                <a:cubicBezTo>
                  <a:pt x="4053" y="18244"/>
                  <a:pt x="4239" y="18299"/>
                  <a:pt x="4415" y="18331"/>
                </a:cubicBezTo>
                <a:cubicBezTo>
                  <a:pt x="4533" y="18352"/>
                  <a:pt x="4638" y="18334"/>
                  <a:pt x="4762" y="18331"/>
                </a:cubicBezTo>
                <a:cubicBezTo>
                  <a:pt x="4872" y="18329"/>
                  <a:pt x="4982" y="18315"/>
                  <a:pt x="5085" y="18306"/>
                </a:cubicBezTo>
                <a:cubicBezTo>
                  <a:pt x="5153" y="18300"/>
                  <a:pt x="5191" y="18292"/>
                  <a:pt x="5259" y="18281"/>
                </a:cubicBezTo>
                <a:cubicBezTo>
                  <a:pt x="5336" y="18268"/>
                  <a:pt x="5406" y="18249"/>
                  <a:pt x="5482" y="18231"/>
                </a:cubicBezTo>
                <a:cubicBezTo>
                  <a:pt x="5545" y="18216"/>
                  <a:pt x="5617" y="18221"/>
                  <a:pt x="5680" y="18207"/>
                </a:cubicBezTo>
                <a:cubicBezTo>
                  <a:pt x="5794" y="18182"/>
                  <a:pt x="5754" y="18177"/>
                  <a:pt x="5779" y="18058"/>
                </a:cubicBezTo>
                <a:cubicBezTo>
                  <a:pt x="5824" y="17840"/>
                  <a:pt x="5832" y="17632"/>
                  <a:pt x="5854" y="17413"/>
                </a:cubicBezTo>
                <a:cubicBezTo>
                  <a:pt x="5866" y="17295"/>
                  <a:pt x="5896" y="17183"/>
                  <a:pt x="5904" y="17066"/>
                </a:cubicBezTo>
                <a:cubicBezTo>
                  <a:pt x="5805" y="17055"/>
                  <a:pt x="5704" y="17053"/>
                  <a:pt x="5606" y="17041"/>
                </a:cubicBezTo>
                <a:cubicBezTo>
                  <a:pt x="5384" y="17014"/>
                  <a:pt x="5158" y="17019"/>
                  <a:pt x="4936" y="16991"/>
                </a:cubicBezTo>
                <a:cubicBezTo>
                  <a:pt x="4859" y="16981"/>
                  <a:pt x="4724" y="16883"/>
                  <a:pt x="4663" y="16892"/>
                </a:cubicBezTo>
                <a:cubicBezTo>
                  <a:pt x="4633" y="16922"/>
                  <a:pt x="4622" y="16936"/>
                  <a:pt x="4614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374840" y="2840040"/>
            <a:ext cx="6332400" cy="3625920"/>
          </a:xfrm>
          <a:custGeom>
            <a:avLst/>
            <a:gdLst/>
            <a:ahLst/>
            <a:rect l="l" t="t" r="r" b="b"/>
            <a:pathLst>
              <a:path w="17587" h="10072">
                <a:moveTo>
                  <a:pt x="8731" y="8012"/>
                </a:moveTo>
                <a:cubicBezTo>
                  <a:pt x="8797" y="7985"/>
                  <a:pt x="8864" y="7964"/>
                  <a:pt x="8930" y="7938"/>
                </a:cubicBezTo>
              </a:path>
              <a:path w="17587" h="10072">
                <a:moveTo>
                  <a:pt x="19869" y="8210"/>
                </a:moveTo>
                <a:cubicBezTo>
                  <a:pt x="19890" y="8254"/>
                  <a:pt x="19893" y="8266"/>
                  <a:pt x="19918" y="8285"/>
                </a:cubicBezTo>
              </a:path>
              <a:path w="17587" h="10072">
                <a:moveTo>
                  <a:pt x="3820" y="17909"/>
                </a:moveTo>
                <a:cubicBezTo>
                  <a:pt x="3820" y="17926"/>
                  <a:pt x="3820" y="17942"/>
                  <a:pt x="3820" y="17959"/>
                </a:cubicBezTo>
              </a:path>
              <a:path w="17587" h="10072">
                <a:moveTo>
                  <a:pt x="21258" y="7888"/>
                </a:moveTo>
                <a:cubicBezTo>
                  <a:pt x="21266" y="7888"/>
                  <a:pt x="21274" y="7888"/>
                  <a:pt x="21282" y="7888"/>
                </a:cubicBezTo>
              </a:path>
              <a:path w="17587" h="10072">
                <a:moveTo>
                  <a:pt x="21282" y="8136"/>
                </a:moveTo>
                <a:cubicBezTo>
                  <a:pt x="21323" y="8161"/>
                  <a:pt x="21365" y="8185"/>
                  <a:pt x="21406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017720"/>
            <a:ext cx="7626240" cy="4037040"/>
          </a:xfrm>
          <a:custGeom>
            <a:avLst/>
            <a:gdLst/>
            <a:ahLst/>
            <a:rect l="l" t="t" r="r" b="b"/>
            <a:pathLst>
              <a:path w="21184" h="11212">
                <a:moveTo>
                  <a:pt x="3646" y="11137"/>
                </a:moveTo>
                <a:cubicBezTo>
                  <a:pt x="3646" y="11145"/>
                  <a:pt x="3646" y="11154"/>
                  <a:pt x="3646" y="11162"/>
                </a:cubicBezTo>
              </a:path>
              <a:path w="21184" h="11212">
                <a:moveTo>
                  <a:pt x="24333" y="5209"/>
                </a:moveTo>
                <a:cubicBezTo>
                  <a:pt x="24368" y="5177"/>
                  <a:pt x="24550" y="4983"/>
                  <a:pt x="24606" y="5035"/>
                </a:cubicBezTo>
                <a:cubicBezTo>
                  <a:pt x="24614" y="5060"/>
                  <a:pt x="24623" y="5085"/>
                  <a:pt x="24631" y="5110"/>
                </a:cubicBezTo>
              </a:path>
              <a:path w="21184" h="11212">
                <a:moveTo>
                  <a:pt x="24805" y="6003"/>
                </a:moveTo>
                <a:cubicBezTo>
                  <a:pt x="24822" y="6160"/>
                  <a:pt x="24830" y="6271"/>
                  <a:pt x="24805" y="6424"/>
                </a:cubicBezTo>
              </a:path>
              <a:path w="21184" h="11212">
                <a:moveTo>
                  <a:pt x="24433" y="2853"/>
                </a:moveTo>
                <a:cubicBezTo>
                  <a:pt x="24433" y="2845"/>
                  <a:pt x="24433" y="2836"/>
                  <a:pt x="24433" y="2828"/>
                </a:cubicBezTo>
              </a:path>
              <a:path w="21184" h="11212">
                <a:moveTo>
                  <a:pt x="22523" y="14039"/>
                </a:moveTo>
                <a:cubicBezTo>
                  <a:pt x="22694" y="13978"/>
                  <a:pt x="22814" y="13994"/>
                  <a:pt x="22994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6750000" y="2000160"/>
            <a:ext cx="1233360" cy="1017720"/>
          </a:xfrm>
          <a:custGeom>
            <a:avLst/>
            <a:gdLst/>
            <a:ahLst/>
            <a:rect l="l" t="t" r="r" b="b"/>
            <a:pathLst>
              <a:path w="3424" h="2829">
                <a:moveTo>
                  <a:pt x="20712" y="6375"/>
                </a:moveTo>
                <a:cubicBezTo>
                  <a:pt x="20800" y="6375"/>
                  <a:pt x="20874" y="6357"/>
                  <a:pt x="20960" y="6350"/>
                </a:cubicBezTo>
                <a:cubicBezTo>
                  <a:pt x="20985" y="6350"/>
                  <a:pt x="20993" y="6350"/>
                  <a:pt x="21010" y="6350"/>
                </a:cubicBezTo>
              </a:path>
              <a:path w="3424" h="2829">
                <a:moveTo>
                  <a:pt x="21506" y="5953"/>
                </a:moveTo>
                <a:cubicBezTo>
                  <a:pt x="21522" y="5945"/>
                  <a:pt x="21539" y="5936"/>
                  <a:pt x="21555" y="5928"/>
                </a:cubicBezTo>
                <a:cubicBezTo>
                  <a:pt x="21469" y="5928"/>
                  <a:pt x="21391" y="5962"/>
                  <a:pt x="21307" y="5978"/>
                </a:cubicBezTo>
                <a:cubicBezTo>
                  <a:pt x="21218" y="5995"/>
                  <a:pt x="21236" y="6103"/>
                  <a:pt x="21233" y="6176"/>
                </a:cubicBezTo>
                <a:cubicBezTo>
                  <a:pt x="21233" y="6218"/>
                  <a:pt x="21233" y="6226"/>
                  <a:pt x="21233" y="6251"/>
                </a:cubicBezTo>
                <a:cubicBezTo>
                  <a:pt x="21359" y="6230"/>
                  <a:pt x="21445" y="6141"/>
                  <a:pt x="21580" y="6201"/>
                </a:cubicBezTo>
                <a:cubicBezTo>
                  <a:pt x="21742" y="6273"/>
                  <a:pt x="21480" y="6483"/>
                  <a:pt x="21431" y="6499"/>
                </a:cubicBezTo>
                <a:cubicBezTo>
                  <a:pt x="21348" y="6499"/>
                  <a:pt x="21332" y="6499"/>
                  <a:pt x="21282" y="6499"/>
                </a:cubicBezTo>
              </a:path>
              <a:path w="3424" h="2829">
                <a:moveTo>
                  <a:pt x="21729" y="6127"/>
                </a:moveTo>
                <a:cubicBezTo>
                  <a:pt x="21807" y="6158"/>
                  <a:pt x="21907" y="6244"/>
                  <a:pt x="21977" y="6300"/>
                </a:cubicBezTo>
                <a:cubicBezTo>
                  <a:pt x="22019" y="6333"/>
                  <a:pt x="22060" y="6383"/>
                  <a:pt x="22076" y="6350"/>
                </a:cubicBezTo>
              </a:path>
              <a:path w="3424" h="2829">
                <a:moveTo>
                  <a:pt x="22002" y="5978"/>
                </a:moveTo>
                <a:cubicBezTo>
                  <a:pt x="21966" y="6103"/>
                  <a:pt x="21896" y="6226"/>
                  <a:pt x="21853" y="6350"/>
                </a:cubicBezTo>
                <a:cubicBezTo>
                  <a:pt x="21844" y="6377"/>
                  <a:pt x="21835" y="6396"/>
                  <a:pt x="21828" y="6424"/>
                </a:cubicBezTo>
              </a:path>
              <a:path w="3424" h="2829">
                <a:moveTo>
                  <a:pt x="21158" y="6772"/>
                </a:moveTo>
                <a:cubicBezTo>
                  <a:pt x="21435" y="6719"/>
                  <a:pt x="21720" y="6691"/>
                  <a:pt x="22002" y="6672"/>
                </a:cubicBezTo>
                <a:cubicBezTo>
                  <a:pt x="22075" y="6667"/>
                  <a:pt x="22157" y="6646"/>
                  <a:pt x="22175" y="6722"/>
                </a:cubicBezTo>
              </a:path>
              <a:path w="3424" h="2829">
                <a:moveTo>
                  <a:pt x="18976" y="6945"/>
                </a:moveTo>
                <a:cubicBezTo>
                  <a:pt x="19307" y="6835"/>
                  <a:pt x="19619" y="6805"/>
                  <a:pt x="19968" y="6796"/>
                </a:cubicBezTo>
                <a:cubicBezTo>
                  <a:pt x="20086" y="6796"/>
                  <a:pt x="20107" y="6782"/>
                  <a:pt x="20166" y="6821"/>
                </a:cubicBezTo>
              </a:path>
              <a:path w="3424" h="2829">
                <a:moveTo>
                  <a:pt x="21654" y="6945"/>
                </a:moveTo>
                <a:cubicBezTo>
                  <a:pt x="21568" y="6955"/>
                  <a:pt x="21458" y="6954"/>
                  <a:pt x="21382" y="6995"/>
                </a:cubicBezTo>
                <a:cubicBezTo>
                  <a:pt x="21306" y="7036"/>
                  <a:pt x="21317" y="7126"/>
                  <a:pt x="21307" y="7193"/>
                </a:cubicBezTo>
                <a:cubicBezTo>
                  <a:pt x="21438" y="7174"/>
                  <a:pt x="21593" y="7127"/>
                  <a:pt x="21654" y="7218"/>
                </a:cubicBezTo>
                <a:cubicBezTo>
                  <a:pt x="21608" y="7434"/>
                  <a:pt x="21490" y="7379"/>
                  <a:pt x="21282" y="7367"/>
                </a:cubicBezTo>
                <a:cubicBezTo>
                  <a:pt x="21266" y="7367"/>
                  <a:pt x="21249" y="7367"/>
                  <a:pt x="21233" y="7367"/>
                </a:cubicBezTo>
              </a:path>
              <a:path w="3424" h="2829">
                <a:moveTo>
                  <a:pt x="19794" y="7020"/>
                </a:moveTo>
                <a:cubicBezTo>
                  <a:pt x="19755" y="7030"/>
                  <a:pt x="19681" y="7052"/>
                  <a:pt x="19645" y="7069"/>
                </a:cubicBezTo>
                <a:cubicBezTo>
                  <a:pt x="19596" y="7092"/>
                  <a:pt x="19591" y="7194"/>
                  <a:pt x="19571" y="7243"/>
                </a:cubicBezTo>
                <a:cubicBezTo>
                  <a:pt x="19657" y="7231"/>
                  <a:pt x="19847" y="7162"/>
                  <a:pt x="19918" y="7243"/>
                </a:cubicBezTo>
                <a:cubicBezTo>
                  <a:pt x="20070" y="7417"/>
                  <a:pt x="19701" y="7474"/>
                  <a:pt x="19621" y="7466"/>
                </a:cubicBezTo>
                <a:cubicBezTo>
                  <a:pt x="19604" y="7458"/>
                  <a:pt x="19588" y="7449"/>
                  <a:pt x="19571" y="7441"/>
                </a:cubicBezTo>
              </a:path>
              <a:path w="3424" h="2829">
                <a:moveTo>
                  <a:pt x="21580" y="5556"/>
                </a:moveTo>
                <a:cubicBezTo>
                  <a:pt x="21531" y="5728"/>
                  <a:pt x="21496" y="5896"/>
                  <a:pt x="21506" y="6077"/>
                </a:cubicBezTo>
                <a:cubicBezTo>
                  <a:pt x="21520" y="6323"/>
                  <a:pt x="21600" y="6547"/>
                  <a:pt x="21605" y="6796"/>
                </a:cubicBezTo>
                <a:cubicBezTo>
                  <a:pt x="21607" y="6911"/>
                  <a:pt x="21617" y="7013"/>
                  <a:pt x="21654" y="7119"/>
                </a:cubicBezTo>
                <a:cubicBezTo>
                  <a:pt x="21675" y="7181"/>
                  <a:pt x="21700" y="7233"/>
                  <a:pt x="21704" y="7293"/>
                </a:cubicBezTo>
                <a:cubicBezTo>
                  <a:pt x="21707" y="7349"/>
                  <a:pt x="21685" y="7332"/>
                  <a:pt x="21729" y="7317"/>
                </a:cubicBezTo>
              </a:path>
              <a:path w="3424" h="2829">
                <a:moveTo>
                  <a:pt x="21580" y="7938"/>
                </a:moveTo>
                <a:cubicBezTo>
                  <a:pt x="21681" y="7971"/>
                  <a:pt x="21806" y="8080"/>
                  <a:pt x="21878" y="8161"/>
                </a:cubicBezTo>
                <a:cubicBezTo>
                  <a:pt x="21878" y="8189"/>
                  <a:pt x="21880" y="8195"/>
                  <a:pt x="21903" y="8161"/>
                </a:cubicBezTo>
              </a:path>
              <a:path w="3424" h="2829">
                <a:moveTo>
                  <a:pt x="21903" y="7689"/>
                </a:moveTo>
                <a:cubicBezTo>
                  <a:pt x="21831" y="7832"/>
                  <a:pt x="21705" y="8004"/>
                  <a:pt x="21679" y="8161"/>
                </a:cubicBezTo>
                <a:cubicBezTo>
                  <a:pt x="21679" y="8169"/>
                  <a:pt x="21679" y="8178"/>
                  <a:pt x="21679" y="8186"/>
                </a:cubicBezTo>
              </a:path>
              <a:path w="3424" h="2829">
                <a:moveTo>
                  <a:pt x="20538" y="8111"/>
                </a:moveTo>
                <a:cubicBezTo>
                  <a:pt x="20627" y="8111"/>
                  <a:pt x="20701" y="8096"/>
                  <a:pt x="20786" y="8086"/>
                </a:cubicBezTo>
              </a:path>
              <a:path w="3424" h="2829">
                <a:moveTo>
                  <a:pt x="20588" y="8310"/>
                </a:moveTo>
                <a:cubicBezTo>
                  <a:pt x="20680" y="8303"/>
                  <a:pt x="20769" y="8285"/>
                  <a:pt x="20861" y="8285"/>
                </a:cubicBezTo>
              </a:path>
              <a:path w="3424" h="2829">
                <a:moveTo>
                  <a:pt x="18926" y="7938"/>
                </a:moveTo>
                <a:cubicBezTo>
                  <a:pt x="18952" y="7782"/>
                  <a:pt x="18991" y="7789"/>
                  <a:pt x="19124" y="7789"/>
                </a:cubicBezTo>
                <a:cubicBezTo>
                  <a:pt x="19190" y="8032"/>
                  <a:pt x="19175" y="8335"/>
                  <a:pt x="18827" y="8384"/>
                </a:cubicBezTo>
                <a:cubicBezTo>
                  <a:pt x="18802" y="8367"/>
                  <a:pt x="18777" y="8351"/>
                  <a:pt x="18752" y="8334"/>
                </a:cubicBezTo>
                <a:cubicBezTo>
                  <a:pt x="18818" y="8191"/>
                  <a:pt x="19025" y="7895"/>
                  <a:pt x="19174" y="8210"/>
                </a:cubicBezTo>
                <a:cubicBezTo>
                  <a:pt x="19174" y="8304"/>
                  <a:pt x="19195" y="8325"/>
                  <a:pt x="19149" y="8359"/>
                </a:cubicBezTo>
              </a:path>
              <a:path w="3424" h="2829">
                <a:moveTo>
                  <a:pt x="19621" y="7789"/>
                </a:moveTo>
                <a:cubicBezTo>
                  <a:pt x="19660" y="7802"/>
                  <a:pt x="19630" y="7800"/>
                  <a:pt x="19670" y="7813"/>
                </a:cubicBezTo>
                <a:cubicBezTo>
                  <a:pt x="19575" y="7832"/>
                  <a:pt x="19467" y="7816"/>
                  <a:pt x="19372" y="7838"/>
                </a:cubicBezTo>
                <a:cubicBezTo>
                  <a:pt x="19333" y="7847"/>
                  <a:pt x="19314" y="7982"/>
                  <a:pt x="19323" y="8012"/>
                </a:cubicBezTo>
                <a:cubicBezTo>
                  <a:pt x="19330" y="8038"/>
                  <a:pt x="19362" y="8093"/>
                  <a:pt x="19397" y="8086"/>
                </a:cubicBezTo>
                <a:cubicBezTo>
                  <a:pt x="19494" y="8066"/>
                  <a:pt x="19665" y="7979"/>
                  <a:pt x="19670" y="8161"/>
                </a:cubicBezTo>
                <a:cubicBezTo>
                  <a:pt x="19675" y="8347"/>
                  <a:pt x="19480" y="8413"/>
                  <a:pt x="19323" y="8384"/>
                </a:cubicBezTo>
                <a:cubicBezTo>
                  <a:pt x="19293" y="8354"/>
                  <a:pt x="19288" y="8340"/>
                  <a:pt x="19323" y="8310"/>
                </a:cubicBezTo>
              </a:path>
              <a:path w="3424" h="2829">
                <a:moveTo>
                  <a:pt x="20042" y="7789"/>
                </a:moveTo>
                <a:cubicBezTo>
                  <a:pt x="20068" y="7661"/>
                  <a:pt x="20218" y="7690"/>
                  <a:pt x="20265" y="7813"/>
                </a:cubicBezTo>
                <a:cubicBezTo>
                  <a:pt x="20341" y="8014"/>
                  <a:pt x="20224" y="8175"/>
                  <a:pt x="20067" y="8260"/>
                </a:cubicBezTo>
                <a:cubicBezTo>
                  <a:pt x="20034" y="8160"/>
                  <a:pt x="20016" y="8062"/>
                  <a:pt x="20166" y="8062"/>
                </a:cubicBezTo>
                <a:cubicBezTo>
                  <a:pt x="20326" y="8062"/>
                  <a:pt x="20422" y="8112"/>
                  <a:pt x="20389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8109000" y="803160"/>
            <a:ext cx="1017360" cy="1428840"/>
          </a:xfrm>
          <a:custGeom>
            <a:avLst/>
            <a:gdLst/>
            <a:ahLst/>
            <a:rect l="l" t="t" r="r" b="b"/>
            <a:pathLst>
              <a:path w="2828" h="3970">
                <a:moveTo>
                  <a:pt x="23217" y="3497"/>
                </a:moveTo>
                <a:cubicBezTo>
                  <a:pt x="23284" y="3608"/>
                  <a:pt x="23303" y="3928"/>
                  <a:pt x="23316" y="4093"/>
                </a:cubicBezTo>
                <a:cubicBezTo>
                  <a:pt x="23316" y="4134"/>
                  <a:pt x="23316" y="4176"/>
                  <a:pt x="23316" y="4217"/>
                </a:cubicBezTo>
              </a:path>
              <a:path w="2828" h="3970">
                <a:moveTo>
                  <a:pt x="23540" y="3547"/>
                </a:moveTo>
                <a:cubicBezTo>
                  <a:pt x="23729" y="3441"/>
                  <a:pt x="23989" y="3457"/>
                  <a:pt x="23961" y="3770"/>
                </a:cubicBezTo>
                <a:cubicBezTo>
                  <a:pt x="23939" y="4008"/>
                  <a:pt x="23793" y="4050"/>
                  <a:pt x="23614" y="4118"/>
                </a:cubicBezTo>
                <a:cubicBezTo>
                  <a:pt x="23576" y="3976"/>
                  <a:pt x="23599" y="3747"/>
                  <a:pt x="23812" y="3870"/>
                </a:cubicBezTo>
                <a:cubicBezTo>
                  <a:pt x="23879" y="3936"/>
                  <a:pt x="23896" y="3952"/>
                  <a:pt x="23937" y="3994"/>
                </a:cubicBezTo>
              </a:path>
              <a:path w="2828" h="3970">
                <a:moveTo>
                  <a:pt x="24110" y="3398"/>
                </a:moveTo>
                <a:cubicBezTo>
                  <a:pt x="24110" y="3534"/>
                  <a:pt x="24113" y="3660"/>
                  <a:pt x="24135" y="3795"/>
                </a:cubicBezTo>
                <a:cubicBezTo>
                  <a:pt x="24155" y="3896"/>
                  <a:pt x="24153" y="3916"/>
                  <a:pt x="24185" y="3969"/>
                </a:cubicBezTo>
                <a:cubicBezTo>
                  <a:pt x="24324" y="3951"/>
                  <a:pt x="24517" y="3892"/>
                  <a:pt x="24408" y="3696"/>
                </a:cubicBezTo>
                <a:cubicBezTo>
                  <a:pt x="24391" y="3688"/>
                  <a:pt x="24375" y="3679"/>
                  <a:pt x="24358" y="3671"/>
                </a:cubicBezTo>
                <a:cubicBezTo>
                  <a:pt x="24232" y="3763"/>
                  <a:pt x="24204" y="3854"/>
                  <a:pt x="24259" y="4018"/>
                </a:cubicBezTo>
                <a:cubicBezTo>
                  <a:pt x="24259" y="4010"/>
                  <a:pt x="24259" y="4002"/>
                  <a:pt x="24259" y="3994"/>
                </a:cubicBezTo>
              </a:path>
              <a:path w="2828" h="3970">
                <a:moveTo>
                  <a:pt x="23068" y="4341"/>
                </a:moveTo>
                <a:cubicBezTo>
                  <a:pt x="23068" y="4166"/>
                  <a:pt x="23047" y="3996"/>
                  <a:pt x="23044" y="3820"/>
                </a:cubicBezTo>
                <a:cubicBezTo>
                  <a:pt x="23042" y="3663"/>
                  <a:pt x="23010" y="3545"/>
                  <a:pt x="22969" y="3398"/>
                </a:cubicBezTo>
                <a:cubicBezTo>
                  <a:pt x="23162" y="3347"/>
                  <a:pt x="23383" y="3307"/>
                  <a:pt x="23589" y="3274"/>
                </a:cubicBezTo>
                <a:cubicBezTo>
                  <a:pt x="23946" y="3217"/>
                  <a:pt x="24297" y="3092"/>
                  <a:pt x="24656" y="3051"/>
                </a:cubicBezTo>
                <a:cubicBezTo>
                  <a:pt x="24762" y="3039"/>
                  <a:pt x="24773" y="3046"/>
                  <a:pt x="24705" y="3101"/>
                </a:cubicBezTo>
              </a:path>
              <a:path w="2828" h="3970">
                <a:moveTo>
                  <a:pt x="22696" y="3597"/>
                </a:moveTo>
                <a:cubicBezTo>
                  <a:pt x="22560" y="3645"/>
                  <a:pt x="22542" y="3694"/>
                  <a:pt x="22523" y="3845"/>
                </a:cubicBezTo>
                <a:cubicBezTo>
                  <a:pt x="22523" y="3870"/>
                  <a:pt x="22523" y="3894"/>
                  <a:pt x="22523" y="3919"/>
                </a:cubicBezTo>
                <a:cubicBezTo>
                  <a:pt x="22654" y="3897"/>
                  <a:pt x="22703" y="3824"/>
                  <a:pt x="22845" y="3870"/>
                </a:cubicBezTo>
                <a:cubicBezTo>
                  <a:pt x="23020" y="3926"/>
                  <a:pt x="22910" y="4147"/>
                  <a:pt x="22796" y="4192"/>
                </a:cubicBezTo>
                <a:cubicBezTo>
                  <a:pt x="22721" y="4222"/>
                  <a:pt x="22649" y="4217"/>
                  <a:pt x="22572" y="4217"/>
                </a:cubicBezTo>
              </a:path>
              <a:path w="2828" h="3970">
                <a:moveTo>
                  <a:pt x="23515" y="2853"/>
                </a:moveTo>
                <a:cubicBezTo>
                  <a:pt x="23515" y="2881"/>
                  <a:pt x="23512" y="2886"/>
                  <a:pt x="23490" y="2853"/>
                </a:cubicBezTo>
                <a:cubicBezTo>
                  <a:pt x="23532" y="2784"/>
                  <a:pt x="23691" y="2757"/>
                  <a:pt x="23738" y="2902"/>
                </a:cubicBezTo>
                <a:cubicBezTo>
                  <a:pt x="23801" y="3095"/>
                  <a:pt x="23624" y="3283"/>
                  <a:pt x="23440" y="3225"/>
                </a:cubicBezTo>
                <a:cubicBezTo>
                  <a:pt x="23432" y="3217"/>
                  <a:pt x="23424" y="3208"/>
                  <a:pt x="23416" y="3200"/>
                </a:cubicBezTo>
                <a:cubicBezTo>
                  <a:pt x="23456" y="3053"/>
                  <a:pt x="23576" y="3021"/>
                  <a:pt x="23738" y="3076"/>
                </a:cubicBezTo>
                <a:cubicBezTo>
                  <a:pt x="23794" y="3113"/>
                  <a:pt x="23819" y="3108"/>
                  <a:pt x="23812" y="3150"/>
                </a:cubicBezTo>
              </a:path>
              <a:path w="2828" h="3970">
                <a:moveTo>
                  <a:pt x="23316" y="4316"/>
                </a:moveTo>
                <a:cubicBezTo>
                  <a:pt x="23349" y="4249"/>
                  <a:pt x="23414" y="4582"/>
                  <a:pt x="23416" y="4589"/>
                </a:cubicBezTo>
                <a:cubicBezTo>
                  <a:pt x="23424" y="4622"/>
                  <a:pt x="23432" y="4655"/>
                  <a:pt x="23440" y="4688"/>
                </a:cubicBezTo>
              </a:path>
              <a:path w="2828" h="3970">
                <a:moveTo>
                  <a:pt x="23812" y="4192"/>
                </a:moveTo>
                <a:cubicBezTo>
                  <a:pt x="23720" y="4378"/>
                  <a:pt x="23620" y="4522"/>
                  <a:pt x="23763" y="4663"/>
                </a:cubicBezTo>
                <a:cubicBezTo>
                  <a:pt x="23789" y="4630"/>
                  <a:pt x="24065" y="4166"/>
                  <a:pt x="23812" y="4217"/>
                </a:cubicBezTo>
                <a:cubicBezTo>
                  <a:pt x="23667" y="4314"/>
                  <a:pt x="23619" y="4344"/>
                  <a:pt x="23589" y="4465"/>
                </a:cubicBezTo>
              </a:path>
              <a:path w="2828" h="3970">
                <a:moveTo>
                  <a:pt x="23044" y="4936"/>
                </a:moveTo>
                <a:cubicBezTo>
                  <a:pt x="23372" y="4834"/>
                  <a:pt x="23680" y="4624"/>
                  <a:pt x="24011" y="4539"/>
                </a:cubicBezTo>
                <a:cubicBezTo>
                  <a:pt x="24019" y="4547"/>
                  <a:pt x="24028" y="4556"/>
                  <a:pt x="24036" y="4564"/>
                </a:cubicBezTo>
              </a:path>
              <a:path w="2828" h="3970">
                <a:moveTo>
                  <a:pt x="23763" y="4713"/>
                </a:moveTo>
                <a:cubicBezTo>
                  <a:pt x="23871" y="4707"/>
                  <a:pt x="23958" y="4698"/>
                  <a:pt x="24061" y="4713"/>
                </a:cubicBezTo>
                <a:cubicBezTo>
                  <a:pt x="24037" y="4862"/>
                  <a:pt x="23895" y="5024"/>
                  <a:pt x="23887" y="5159"/>
                </a:cubicBezTo>
                <a:cubicBezTo>
                  <a:pt x="23879" y="5284"/>
                  <a:pt x="24077" y="5051"/>
                  <a:pt x="24085" y="5035"/>
                </a:cubicBezTo>
              </a:path>
              <a:path w="2828" h="3970">
                <a:moveTo>
                  <a:pt x="23986" y="4663"/>
                </a:moveTo>
                <a:cubicBezTo>
                  <a:pt x="23965" y="4789"/>
                  <a:pt x="23897" y="5025"/>
                  <a:pt x="24061" y="5085"/>
                </a:cubicBezTo>
                <a:cubicBezTo>
                  <a:pt x="24280" y="5166"/>
                  <a:pt x="24328" y="4894"/>
                  <a:pt x="24358" y="4762"/>
                </a:cubicBezTo>
                <a:cubicBezTo>
                  <a:pt x="24325" y="4762"/>
                  <a:pt x="24309" y="4762"/>
                  <a:pt x="24284" y="4762"/>
                </a:cubicBezTo>
                <a:cubicBezTo>
                  <a:pt x="24262" y="4854"/>
                  <a:pt x="24175" y="5036"/>
                  <a:pt x="24309" y="5011"/>
                </a:cubicBezTo>
              </a:path>
              <a:path w="2828" h="3970">
                <a:moveTo>
                  <a:pt x="24135" y="2877"/>
                </a:moveTo>
                <a:cubicBezTo>
                  <a:pt x="24042" y="2877"/>
                  <a:pt x="23951" y="2841"/>
                  <a:pt x="23937" y="2927"/>
                </a:cubicBezTo>
                <a:cubicBezTo>
                  <a:pt x="23964" y="3012"/>
                  <a:pt x="24007" y="2816"/>
                  <a:pt x="24085" y="2803"/>
                </a:cubicBezTo>
                <a:cubicBezTo>
                  <a:pt x="24251" y="2776"/>
                  <a:pt x="24345" y="2913"/>
                  <a:pt x="24309" y="3051"/>
                </a:cubicBezTo>
                <a:cubicBezTo>
                  <a:pt x="24266" y="3213"/>
                  <a:pt x="24142" y="3187"/>
                  <a:pt x="24011" y="3200"/>
                </a:cubicBezTo>
              </a:path>
              <a:path w="2828" h="3970">
                <a:moveTo>
                  <a:pt x="24036" y="2828"/>
                </a:moveTo>
                <a:cubicBezTo>
                  <a:pt x="24013" y="2820"/>
                  <a:pt x="23988" y="2819"/>
                  <a:pt x="23961" y="2803"/>
                </a:cubicBezTo>
                <a:cubicBezTo>
                  <a:pt x="23860" y="2746"/>
                  <a:pt x="24039" y="2630"/>
                  <a:pt x="24061" y="2604"/>
                </a:cubicBezTo>
                <a:cubicBezTo>
                  <a:pt x="24101" y="2556"/>
                  <a:pt x="24141" y="2488"/>
                  <a:pt x="24209" y="2480"/>
                </a:cubicBezTo>
                <a:cubicBezTo>
                  <a:pt x="24217" y="2480"/>
                  <a:pt x="24226" y="2480"/>
                  <a:pt x="24234" y="2480"/>
                </a:cubicBezTo>
              </a:path>
              <a:path w="2828" h="3970">
                <a:moveTo>
                  <a:pt x="24011" y="5383"/>
                </a:moveTo>
                <a:cubicBezTo>
                  <a:pt x="24108" y="5253"/>
                  <a:pt x="24169" y="5273"/>
                  <a:pt x="24309" y="5333"/>
                </a:cubicBezTo>
                <a:cubicBezTo>
                  <a:pt x="24250" y="5529"/>
                  <a:pt x="24212" y="5623"/>
                  <a:pt x="24011" y="5680"/>
                </a:cubicBezTo>
                <a:cubicBezTo>
                  <a:pt x="24011" y="5534"/>
                  <a:pt x="24118" y="5496"/>
                  <a:pt x="24259" y="5556"/>
                </a:cubicBezTo>
                <a:cubicBezTo>
                  <a:pt x="24282" y="5579"/>
                  <a:pt x="24286" y="5587"/>
                  <a:pt x="24309" y="5581"/>
                </a:cubicBezTo>
              </a:path>
              <a:path w="2828" h="3970">
                <a:moveTo>
                  <a:pt x="24408" y="5209"/>
                </a:moveTo>
                <a:cubicBezTo>
                  <a:pt x="24427" y="5341"/>
                  <a:pt x="24530" y="5282"/>
                  <a:pt x="24606" y="5358"/>
                </a:cubicBezTo>
                <a:cubicBezTo>
                  <a:pt x="24702" y="5454"/>
                  <a:pt x="24587" y="5494"/>
                  <a:pt x="24532" y="5531"/>
                </a:cubicBezTo>
              </a:path>
              <a:path w="2828" h="3970">
                <a:moveTo>
                  <a:pt x="24036" y="6077"/>
                </a:moveTo>
                <a:cubicBezTo>
                  <a:pt x="24311" y="5951"/>
                  <a:pt x="24560" y="5790"/>
                  <a:pt x="24829" y="5655"/>
                </a:cubicBezTo>
                <a:cubicBezTo>
                  <a:pt x="24871" y="5655"/>
                  <a:pt x="24879" y="5672"/>
                  <a:pt x="24854" y="5730"/>
                </a:cubicBezTo>
              </a:path>
              <a:path w="2828" h="3970">
                <a:moveTo>
                  <a:pt x="24755" y="3671"/>
                </a:moveTo>
                <a:cubicBezTo>
                  <a:pt x="24768" y="3711"/>
                  <a:pt x="24788" y="3772"/>
                  <a:pt x="24755" y="3746"/>
                </a:cubicBezTo>
                <a:cubicBezTo>
                  <a:pt x="24722" y="3713"/>
                  <a:pt x="24689" y="3679"/>
                  <a:pt x="24656" y="3646"/>
                </a:cubicBezTo>
              </a:path>
              <a:path w="2828" h="3970">
                <a:moveTo>
                  <a:pt x="25003" y="3125"/>
                </a:moveTo>
                <a:cubicBezTo>
                  <a:pt x="24938" y="3339"/>
                  <a:pt x="24898" y="3511"/>
                  <a:pt x="24954" y="3721"/>
                </a:cubicBezTo>
                <a:cubicBezTo>
                  <a:pt x="25117" y="3690"/>
                  <a:pt x="25303" y="3589"/>
                  <a:pt x="25202" y="3373"/>
                </a:cubicBezTo>
                <a:cubicBezTo>
                  <a:pt x="25128" y="3215"/>
                  <a:pt x="24982" y="3260"/>
                  <a:pt x="24854" y="3274"/>
                </a:cubicBezTo>
              </a:path>
              <a:path w="2828" h="3970">
                <a:moveTo>
                  <a:pt x="25078" y="3721"/>
                </a:moveTo>
                <a:cubicBezTo>
                  <a:pt x="25181" y="3962"/>
                  <a:pt x="25258" y="4205"/>
                  <a:pt x="25301" y="4465"/>
                </a:cubicBezTo>
                <a:cubicBezTo>
                  <a:pt x="25324" y="4672"/>
                  <a:pt x="25330" y="4730"/>
                  <a:pt x="25350" y="4862"/>
                </a:cubicBezTo>
              </a:path>
              <a:path w="2828" h="3970">
                <a:moveTo>
                  <a:pt x="25276" y="5755"/>
                </a:moveTo>
                <a:cubicBezTo>
                  <a:pt x="25242" y="5873"/>
                  <a:pt x="25145" y="6075"/>
                  <a:pt x="25177" y="6201"/>
                </a:cubicBezTo>
                <a:cubicBezTo>
                  <a:pt x="25177" y="6201"/>
                  <a:pt x="25393" y="5956"/>
                  <a:pt x="25152" y="5755"/>
                </a:cubicBezTo>
              </a:path>
              <a:path w="2828" h="3970">
                <a:moveTo>
                  <a:pt x="24656" y="2505"/>
                </a:moveTo>
                <a:cubicBezTo>
                  <a:pt x="24674" y="2415"/>
                  <a:pt x="24734" y="2342"/>
                  <a:pt x="24805" y="2282"/>
                </a:cubicBezTo>
                <a:cubicBezTo>
                  <a:pt x="24830" y="2265"/>
                  <a:pt x="24854" y="2249"/>
                  <a:pt x="24879" y="2232"/>
                </a:cubicBezTo>
                <a:cubicBezTo>
                  <a:pt x="24879" y="2444"/>
                  <a:pt x="24858" y="2605"/>
                  <a:pt x="24780" y="2803"/>
                </a:cubicBezTo>
                <a:cubicBezTo>
                  <a:pt x="24760" y="2844"/>
                  <a:pt x="24741" y="2860"/>
                  <a:pt x="24780" y="2853"/>
                </a:cubicBezTo>
                <a:cubicBezTo>
                  <a:pt x="24888" y="2806"/>
                  <a:pt x="24990" y="2736"/>
                  <a:pt x="25102" y="27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589800" y="1795320"/>
            <a:ext cx="760320" cy="571680"/>
          </a:xfrm>
          <a:custGeom>
            <a:avLst/>
            <a:gdLst/>
            <a:ahLst/>
            <a:rect l="l" t="t" r="r" b="b"/>
            <a:pathLst>
              <a:path w="2109" h="1588">
                <a:moveTo>
                  <a:pt x="18678" y="5283"/>
                </a:moveTo>
                <a:cubicBezTo>
                  <a:pt x="18678" y="5310"/>
                  <a:pt x="18702" y="5206"/>
                  <a:pt x="18653" y="5135"/>
                </a:cubicBezTo>
                <a:cubicBezTo>
                  <a:pt x="18523" y="4945"/>
                  <a:pt x="18352" y="5079"/>
                  <a:pt x="18306" y="5259"/>
                </a:cubicBezTo>
                <a:cubicBezTo>
                  <a:pt x="18306" y="5376"/>
                  <a:pt x="18278" y="5411"/>
                  <a:pt x="18355" y="5432"/>
                </a:cubicBezTo>
                <a:cubicBezTo>
                  <a:pt x="18495" y="5395"/>
                  <a:pt x="18534" y="5367"/>
                  <a:pt x="18579" y="5209"/>
                </a:cubicBezTo>
                <a:cubicBezTo>
                  <a:pt x="18606" y="5344"/>
                  <a:pt x="18642" y="5488"/>
                  <a:pt x="18653" y="5631"/>
                </a:cubicBezTo>
                <a:cubicBezTo>
                  <a:pt x="18653" y="5725"/>
                  <a:pt x="18632" y="5746"/>
                  <a:pt x="18678" y="5779"/>
                </a:cubicBezTo>
              </a:path>
              <a:path w="2109" h="1588">
                <a:moveTo>
                  <a:pt x="19050" y="5259"/>
                </a:moveTo>
                <a:cubicBezTo>
                  <a:pt x="19127" y="5284"/>
                  <a:pt x="19201" y="5419"/>
                  <a:pt x="19273" y="5482"/>
                </a:cubicBezTo>
                <a:cubicBezTo>
                  <a:pt x="19313" y="5502"/>
                  <a:pt x="19330" y="5500"/>
                  <a:pt x="19323" y="5531"/>
                </a:cubicBezTo>
              </a:path>
              <a:path w="2109" h="1588">
                <a:moveTo>
                  <a:pt x="19323" y="5159"/>
                </a:moveTo>
                <a:cubicBezTo>
                  <a:pt x="19261" y="5294"/>
                  <a:pt x="19119" y="5488"/>
                  <a:pt x="19100" y="5631"/>
                </a:cubicBezTo>
                <a:cubicBezTo>
                  <a:pt x="19108" y="5623"/>
                  <a:pt x="19116" y="5614"/>
                  <a:pt x="19124" y="5606"/>
                </a:cubicBezTo>
              </a:path>
              <a:path w="2109" h="1588">
                <a:moveTo>
                  <a:pt x="19745" y="5110"/>
                </a:moveTo>
                <a:cubicBezTo>
                  <a:pt x="19761" y="5261"/>
                  <a:pt x="19769" y="5404"/>
                  <a:pt x="19769" y="5556"/>
                </a:cubicBezTo>
                <a:cubicBezTo>
                  <a:pt x="19769" y="5614"/>
                  <a:pt x="19769" y="5656"/>
                  <a:pt x="19769" y="5606"/>
                </a:cubicBezTo>
              </a:path>
              <a:path w="2109" h="1588">
                <a:moveTo>
                  <a:pt x="19993" y="5184"/>
                </a:moveTo>
                <a:cubicBezTo>
                  <a:pt x="20002" y="5219"/>
                  <a:pt x="19981" y="5318"/>
                  <a:pt x="19993" y="5333"/>
                </a:cubicBezTo>
                <a:cubicBezTo>
                  <a:pt x="20050" y="5404"/>
                  <a:pt x="20198" y="5343"/>
                  <a:pt x="20265" y="5333"/>
                </a:cubicBezTo>
              </a:path>
              <a:path w="2109" h="1588">
                <a:moveTo>
                  <a:pt x="20290" y="4986"/>
                </a:moveTo>
                <a:cubicBezTo>
                  <a:pt x="20236" y="5148"/>
                  <a:pt x="20280" y="5332"/>
                  <a:pt x="20290" y="5507"/>
                </a:cubicBezTo>
                <a:cubicBezTo>
                  <a:pt x="20294" y="5572"/>
                  <a:pt x="20290" y="5640"/>
                  <a:pt x="20290" y="5705"/>
                </a:cubicBezTo>
              </a:path>
              <a:path w="2109" h="1588">
                <a:moveTo>
                  <a:pt x="19075" y="6028"/>
                </a:moveTo>
                <a:cubicBezTo>
                  <a:pt x="19075" y="5894"/>
                  <a:pt x="19111" y="6242"/>
                  <a:pt x="19124" y="6375"/>
                </a:cubicBezTo>
                <a:cubicBezTo>
                  <a:pt x="19124" y="6491"/>
                  <a:pt x="19124" y="6507"/>
                  <a:pt x="19124" y="6573"/>
                </a:cubicBezTo>
              </a:path>
              <a:path w="2109" h="1588">
                <a:moveTo>
                  <a:pt x="19348" y="6077"/>
                </a:moveTo>
                <a:cubicBezTo>
                  <a:pt x="19418" y="6006"/>
                  <a:pt x="19526" y="5972"/>
                  <a:pt x="19621" y="6028"/>
                </a:cubicBezTo>
                <a:cubicBezTo>
                  <a:pt x="19830" y="6152"/>
                  <a:pt x="19695" y="6380"/>
                  <a:pt x="19521" y="6449"/>
                </a:cubicBezTo>
                <a:cubicBezTo>
                  <a:pt x="19344" y="6519"/>
                  <a:pt x="19377" y="6478"/>
                  <a:pt x="19348" y="6350"/>
                </a:cubicBezTo>
                <a:cubicBezTo>
                  <a:pt x="19470" y="6227"/>
                  <a:pt x="19545" y="6234"/>
                  <a:pt x="19670" y="6375"/>
                </a:cubicBezTo>
                <a:cubicBezTo>
                  <a:pt x="19706" y="6416"/>
                  <a:pt x="19720" y="6496"/>
                  <a:pt x="19720" y="6449"/>
                </a:cubicBezTo>
              </a:path>
              <a:path w="2109" h="1588">
                <a:moveTo>
                  <a:pt x="20017" y="5879"/>
                </a:moveTo>
                <a:cubicBezTo>
                  <a:pt x="20017" y="5796"/>
                  <a:pt x="20025" y="5995"/>
                  <a:pt x="20017" y="6077"/>
                </a:cubicBezTo>
                <a:cubicBezTo>
                  <a:pt x="20004" y="6210"/>
                  <a:pt x="19957" y="6369"/>
                  <a:pt x="20017" y="6499"/>
                </a:cubicBezTo>
                <a:cubicBezTo>
                  <a:pt x="20055" y="6580"/>
                  <a:pt x="20262" y="6504"/>
                  <a:pt x="20315" y="6474"/>
                </a:cubicBezTo>
                <a:cubicBezTo>
                  <a:pt x="20374" y="6441"/>
                  <a:pt x="20437" y="6345"/>
                  <a:pt x="20414" y="6276"/>
                </a:cubicBezTo>
                <a:cubicBezTo>
                  <a:pt x="20406" y="6268"/>
                  <a:pt x="20397" y="6259"/>
                  <a:pt x="20389" y="6251"/>
                </a:cubicBezTo>
                <a:cubicBezTo>
                  <a:pt x="20285" y="6216"/>
                  <a:pt x="20245" y="6213"/>
                  <a:pt x="20191" y="6325"/>
                </a:cubicBezTo>
                <a:cubicBezTo>
                  <a:pt x="20154" y="6403"/>
                  <a:pt x="20177" y="6406"/>
                  <a:pt x="20191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439040" y="221472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20662" y="6226"/>
                </a:moveTo>
                <a:cubicBezTo>
                  <a:pt x="20728" y="6193"/>
                  <a:pt x="20830" y="6173"/>
                  <a:pt x="20910" y="6152"/>
                </a:cubicBezTo>
                <a:cubicBezTo>
                  <a:pt x="20918" y="6152"/>
                  <a:pt x="20927" y="6152"/>
                  <a:pt x="20935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8242200" y="3589200"/>
            <a:ext cx="438120" cy="304920"/>
          </a:xfrm>
          <a:custGeom>
            <a:avLst/>
            <a:gdLst/>
            <a:ahLst/>
            <a:rect l="l" t="t" r="r" b="b"/>
            <a:pathLst>
              <a:path w="1216" h="845">
                <a:moveTo>
                  <a:pt x="22920" y="10244"/>
                </a:moveTo>
                <a:cubicBezTo>
                  <a:pt x="22920" y="10199"/>
                  <a:pt x="22892" y="10134"/>
                  <a:pt x="22920" y="10220"/>
                </a:cubicBezTo>
                <a:cubicBezTo>
                  <a:pt x="22941" y="10283"/>
                  <a:pt x="22931" y="10301"/>
                  <a:pt x="22920" y="10368"/>
                </a:cubicBezTo>
                <a:cubicBezTo>
                  <a:pt x="22898" y="10253"/>
                  <a:pt x="22854" y="10180"/>
                  <a:pt x="22969" y="10120"/>
                </a:cubicBezTo>
                <a:cubicBezTo>
                  <a:pt x="23046" y="10080"/>
                  <a:pt x="23137" y="10088"/>
                  <a:pt x="23217" y="10046"/>
                </a:cubicBezTo>
                <a:cubicBezTo>
                  <a:pt x="23245" y="10018"/>
                  <a:pt x="23259" y="10009"/>
                  <a:pt x="23292" y="10021"/>
                </a:cubicBezTo>
                <a:cubicBezTo>
                  <a:pt x="23292" y="10219"/>
                  <a:pt x="23194" y="10366"/>
                  <a:pt x="23118" y="10542"/>
                </a:cubicBezTo>
                <a:cubicBezTo>
                  <a:pt x="23082" y="10632"/>
                  <a:pt x="23065" y="10637"/>
                  <a:pt x="23068" y="10691"/>
                </a:cubicBezTo>
              </a:path>
              <a:path w="1216" h="845">
                <a:moveTo>
                  <a:pt x="22895" y="9996"/>
                </a:moveTo>
                <a:cubicBezTo>
                  <a:pt x="22895" y="9913"/>
                  <a:pt x="22885" y="10113"/>
                  <a:pt x="22895" y="10195"/>
                </a:cubicBezTo>
                <a:cubicBezTo>
                  <a:pt x="22913" y="10349"/>
                  <a:pt x="22898" y="10486"/>
                  <a:pt x="22920" y="10641"/>
                </a:cubicBezTo>
                <a:cubicBezTo>
                  <a:pt x="22935" y="10746"/>
                  <a:pt x="22966" y="10737"/>
                  <a:pt x="23068" y="10740"/>
                </a:cubicBezTo>
                <a:cubicBezTo>
                  <a:pt x="23199" y="10744"/>
                  <a:pt x="23272" y="10678"/>
                  <a:pt x="23366" y="10592"/>
                </a:cubicBezTo>
                <a:cubicBezTo>
                  <a:pt x="23396" y="10562"/>
                  <a:pt x="23407" y="10548"/>
                  <a:pt x="23416" y="10517"/>
                </a:cubicBezTo>
                <a:cubicBezTo>
                  <a:pt x="23409" y="10466"/>
                  <a:pt x="23403" y="10423"/>
                  <a:pt x="23341" y="10418"/>
                </a:cubicBezTo>
                <a:cubicBezTo>
                  <a:pt x="23263" y="10412"/>
                  <a:pt x="23144" y="10420"/>
                  <a:pt x="23093" y="10492"/>
                </a:cubicBezTo>
                <a:cubicBezTo>
                  <a:pt x="23063" y="10534"/>
                  <a:pt x="23054" y="10611"/>
                  <a:pt x="23044" y="10666"/>
                </a:cubicBezTo>
                <a:cubicBezTo>
                  <a:pt x="23036" y="10674"/>
                  <a:pt x="23027" y="10683"/>
                  <a:pt x="23019" y="10691"/>
                </a:cubicBezTo>
                <a:cubicBezTo>
                  <a:pt x="23088" y="10576"/>
                  <a:pt x="23036" y="10493"/>
                  <a:pt x="23168" y="10393"/>
                </a:cubicBezTo>
                <a:cubicBezTo>
                  <a:pt x="23320" y="10279"/>
                  <a:pt x="23352" y="10358"/>
                  <a:pt x="23391" y="10492"/>
                </a:cubicBezTo>
                <a:cubicBezTo>
                  <a:pt x="23351" y="10579"/>
                  <a:pt x="23210" y="10815"/>
                  <a:pt x="23068" y="10691"/>
                </a:cubicBezTo>
                <a:cubicBezTo>
                  <a:pt x="22964" y="10600"/>
                  <a:pt x="22947" y="10393"/>
                  <a:pt x="22944" y="10269"/>
                </a:cubicBezTo>
                <a:cubicBezTo>
                  <a:pt x="22944" y="10160"/>
                  <a:pt x="22939" y="10133"/>
                  <a:pt x="22969" y="10071"/>
                </a:cubicBezTo>
                <a:cubicBezTo>
                  <a:pt x="23067" y="9940"/>
                  <a:pt x="22923" y="10222"/>
                  <a:pt x="22920" y="10244"/>
                </a:cubicBezTo>
                <a:cubicBezTo>
                  <a:pt x="22909" y="10333"/>
                  <a:pt x="22877" y="10644"/>
                  <a:pt x="22969" y="10716"/>
                </a:cubicBezTo>
                <a:cubicBezTo>
                  <a:pt x="23089" y="10809"/>
                  <a:pt x="23207" y="10737"/>
                  <a:pt x="23292" y="10641"/>
                </a:cubicBezTo>
                <a:cubicBezTo>
                  <a:pt x="23308" y="10616"/>
                  <a:pt x="23325" y="10592"/>
                  <a:pt x="23341" y="10567"/>
                </a:cubicBezTo>
              </a:path>
              <a:path w="1216" h="845">
                <a:moveTo>
                  <a:pt x="23540" y="10641"/>
                </a:moveTo>
                <a:cubicBezTo>
                  <a:pt x="23484" y="10697"/>
                  <a:pt x="23457" y="10739"/>
                  <a:pt x="23440" y="10815"/>
                </a:cubicBezTo>
                <a:cubicBezTo>
                  <a:pt x="23493" y="10806"/>
                  <a:pt x="23609" y="10773"/>
                  <a:pt x="23540" y="10691"/>
                </a:cubicBezTo>
                <a:cubicBezTo>
                  <a:pt x="23515" y="10691"/>
                  <a:pt x="23507" y="10691"/>
                  <a:pt x="23515" y="10716"/>
                </a:cubicBezTo>
              </a:path>
              <a:path w="1216" h="845">
                <a:moveTo>
                  <a:pt x="23887" y="10071"/>
                </a:moveTo>
                <a:cubicBezTo>
                  <a:pt x="23935" y="10071"/>
                  <a:pt x="23948" y="10075"/>
                  <a:pt x="23986" y="10046"/>
                </a:cubicBezTo>
                <a:cubicBezTo>
                  <a:pt x="23971" y="10016"/>
                  <a:pt x="23854" y="10081"/>
                  <a:pt x="23788" y="10096"/>
                </a:cubicBezTo>
                <a:cubicBezTo>
                  <a:pt x="23731" y="10109"/>
                  <a:pt x="23783" y="10166"/>
                  <a:pt x="23788" y="10220"/>
                </a:cubicBezTo>
                <a:cubicBezTo>
                  <a:pt x="23788" y="10228"/>
                  <a:pt x="23788" y="10236"/>
                  <a:pt x="23788" y="10244"/>
                </a:cubicBezTo>
                <a:cubicBezTo>
                  <a:pt x="23808" y="10234"/>
                  <a:pt x="23934" y="10168"/>
                  <a:pt x="23961" y="10170"/>
                </a:cubicBezTo>
                <a:cubicBezTo>
                  <a:pt x="23987" y="10172"/>
                  <a:pt x="24071" y="10213"/>
                  <a:pt x="24085" y="10244"/>
                </a:cubicBezTo>
                <a:cubicBezTo>
                  <a:pt x="24100" y="10278"/>
                  <a:pt x="24110" y="10303"/>
                  <a:pt x="24110" y="10344"/>
                </a:cubicBezTo>
              </a:path>
              <a:path w="1216" h="845">
                <a:moveTo>
                  <a:pt x="24036" y="10294"/>
                </a:moveTo>
                <a:cubicBezTo>
                  <a:pt x="24087" y="10307"/>
                  <a:pt x="24104" y="10337"/>
                  <a:pt x="24110" y="10393"/>
                </a:cubicBezTo>
                <a:cubicBezTo>
                  <a:pt x="24124" y="10533"/>
                  <a:pt x="23945" y="10513"/>
                  <a:pt x="23862" y="10517"/>
                </a:cubicBezTo>
                <a:cubicBezTo>
                  <a:pt x="23772" y="10521"/>
                  <a:pt x="23772" y="10402"/>
                  <a:pt x="23788" y="10418"/>
                </a:cubicBezTo>
                <a:cubicBezTo>
                  <a:pt x="23788" y="10443"/>
                  <a:pt x="23788" y="10451"/>
                  <a:pt x="23788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8786880" y="2803680"/>
            <a:ext cx="349200" cy="777600"/>
          </a:xfrm>
          <a:custGeom>
            <a:avLst/>
            <a:gdLst/>
            <a:ahLst/>
            <a:rect l="l" t="t" r="r" b="b"/>
            <a:pathLst>
              <a:path w="968" h="2159">
                <a:moveTo>
                  <a:pt x="24755" y="8037"/>
                </a:moveTo>
                <a:cubicBezTo>
                  <a:pt x="24809" y="8198"/>
                  <a:pt x="24807" y="8425"/>
                  <a:pt x="24829" y="8607"/>
                </a:cubicBezTo>
                <a:cubicBezTo>
                  <a:pt x="24829" y="8640"/>
                  <a:pt x="24829" y="8640"/>
                  <a:pt x="24829" y="8582"/>
                </a:cubicBezTo>
              </a:path>
              <a:path w="968" h="2159">
                <a:moveTo>
                  <a:pt x="25003" y="8012"/>
                </a:moveTo>
                <a:cubicBezTo>
                  <a:pt x="25022" y="7955"/>
                  <a:pt x="25112" y="7920"/>
                  <a:pt x="25177" y="7888"/>
                </a:cubicBezTo>
                <a:cubicBezTo>
                  <a:pt x="25233" y="7962"/>
                  <a:pt x="25178" y="8101"/>
                  <a:pt x="25102" y="8186"/>
                </a:cubicBezTo>
                <a:cubicBezTo>
                  <a:pt x="25102" y="8178"/>
                  <a:pt x="25102" y="8169"/>
                  <a:pt x="25102" y="8161"/>
                </a:cubicBezTo>
                <a:cubicBezTo>
                  <a:pt x="25267" y="8109"/>
                  <a:pt x="25444" y="8151"/>
                  <a:pt x="25301" y="8384"/>
                </a:cubicBezTo>
                <a:cubicBezTo>
                  <a:pt x="25238" y="8486"/>
                  <a:pt x="25156" y="8528"/>
                  <a:pt x="25053" y="8558"/>
                </a:cubicBezTo>
              </a:path>
              <a:path w="968" h="2159">
                <a:moveTo>
                  <a:pt x="25102" y="8582"/>
                </a:moveTo>
                <a:cubicBezTo>
                  <a:pt x="25149" y="8573"/>
                  <a:pt x="25266" y="8492"/>
                  <a:pt x="25301" y="8558"/>
                </a:cubicBezTo>
                <a:cubicBezTo>
                  <a:pt x="25354" y="8657"/>
                  <a:pt x="25235" y="8861"/>
                  <a:pt x="25202" y="8954"/>
                </a:cubicBezTo>
              </a:path>
              <a:path w="968" h="2159">
                <a:moveTo>
                  <a:pt x="24606" y="9376"/>
                </a:moveTo>
                <a:cubicBezTo>
                  <a:pt x="24856" y="9301"/>
                  <a:pt x="25098" y="9193"/>
                  <a:pt x="25350" y="9128"/>
                </a:cubicBezTo>
                <a:cubicBezTo>
                  <a:pt x="25375" y="9128"/>
                  <a:pt x="25383" y="9128"/>
                  <a:pt x="25375" y="9153"/>
                </a:cubicBezTo>
              </a:path>
              <a:path w="968" h="2159">
                <a:moveTo>
                  <a:pt x="25053" y="8682"/>
                </a:moveTo>
                <a:cubicBezTo>
                  <a:pt x="25053" y="8657"/>
                  <a:pt x="25053" y="8649"/>
                  <a:pt x="25053" y="8632"/>
                </a:cubicBezTo>
                <a:cubicBezTo>
                  <a:pt x="25126" y="8613"/>
                  <a:pt x="25177" y="8575"/>
                  <a:pt x="25251" y="8533"/>
                </a:cubicBezTo>
              </a:path>
              <a:path w="968" h="2159">
                <a:moveTo>
                  <a:pt x="25276" y="9426"/>
                </a:moveTo>
                <a:cubicBezTo>
                  <a:pt x="25276" y="9350"/>
                  <a:pt x="25276" y="9657"/>
                  <a:pt x="25276" y="9674"/>
                </a:cubicBezTo>
                <a:cubicBezTo>
                  <a:pt x="25276" y="9742"/>
                  <a:pt x="25257" y="9758"/>
                  <a:pt x="25301" y="9773"/>
                </a:cubicBezTo>
              </a:path>
              <a:path w="968" h="2159">
                <a:moveTo>
                  <a:pt x="24408" y="7863"/>
                </a:moveTo>
                <a:cubicBezTo>
                  <a:pt x="24455" y="7830"/>
                  <a:pt x="24484" y="7801"/>
                  <a:pt x="24532" y="7789"/>
                </a:cubicBezTo>
                <a:cubicBezTo>
                  <a:pt x="24585" y="7927"/>
                  <a:pt x="24534" y="8025"/>
                  <a:pt x="24482" y="8161"/>
                </a:cubicBezTo>
                <a:cubicBezTo>
                  <a:pt x="24474" y="8186"/>
                  <a:pt x="24465" y="8210"/>
                  <a:pt x="24457" y="8235"/>
                </a:cubicBezTo>
                <a:cubicBezTo>
                  <a:pt x="24505" y="8196"/>
                  <a:pt x="24625" y="8074"/>
                  <a:pt x="24681" y="8062"/>
                </a:cubicBezTo>
                <a:cubicBezTo>
                  <a:pt x="24689" y="8070"/>
                  <a:pt x="24697" y="8078"/>
                  <a:pt x="24705" y="8086"/>
                </a:cubicBezTo>
              </a:path>
              <a:path w="968" h="2159">
                <a:moveTo>
                  <a:pt x="25028" y="9525"/>
                </a:moveTo>
                <a:cubicBezTo>
                  <a:pt x="24986" y="9508"/>
                  <a:pt x="24907" y="9406"/>
                  <a:pt x="24854" y="9426"/>
                </a:cubicBezTo>
                <a:cubicBezTo>
                  <a:pt x="24743" y="9468"/>
                  <a:pt x="24762" y="9553"/>
                  <a:pt x="24755" y="9649"/>
                </a:cubicBezTo>
                <a:cubicBezTo>
                  <a:pt x="24888" y="9668"/>
                  <a:pt x="24965" y="9534"/>
                  <a:pt x="25053" y="9426"/>
                </a:cubicBezTo>
                <a:cubicBezTo>
                  <a:pt x="25078" y="9375"/>
                  <a:pt x="25076" y="9554"/>
                  <a:pt x="25078" y="9599"/>
                </a:cubicBezTo>
                <a:cubicBezTo>
                  <a:pt x="25083" y="9715"/>
                  <a:pt x="25078" y="9831"/>
                  <a:pt x="25078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8242200" y="4037040"/>
            <a:ext cx="108000" cy="12384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22944" y="11212"/>
                </a:moveTo>
                <a:cubicBezTo>
                  <a:pt x="22923" y="11307"/>
                  <a:pt x="22817" y="11553"/>
                  <a:pt x="22994" y="11559"/>
                </a:cubicBezTo>
                <a:cubicBezTo>
                  <a:pt x="23096" y="11533"/>
                  <a:pt x="23131" y="11524"/>
                  <a:pt x="23192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7599240" y="3902040"/>
            <a:ext cx="1125720" cy="438120"/>
          </a:xfrm>
          <a:custGeom>
            <a:avLst/>
            <a:gdLst/>
            <a:ahLst/>
            <a:rect l="l" t="t" r="r" b="b"/>
            <a:pathLst>
              <a:path w="3126" h="1216">
                <a:moveTo>
                  <a:pt x="22870" y="11261"/>
                </a:moveTo>
                <a:cubicBezTo>
                  <a:pt x="22617" y="11239"/>
                  <a:pt x="22556" y="11254"/>
                  <a:pt x="22349" y="11385"/>
                </a:cubicBezTo>
                <a:cubicBezTo>
                  <a:pt x="22423" y="11518"/>
                  <a:pt x="22725" y="11559"/>
                  <a:pt x="22721" y="11757"/>
                </a:cubicBezTo>
                <a:cubicBezTo>
                  <a:pt x="22647" y="11858"/>
                  <a:pt x="22621" y="11891"/>
                  <a:pt x="22523" y="11881"/>
                </a:cubicBezTo>
                <a:cubicBezTo>
                  <a:pt x="22401" y="11674"/>
                  <a:pt x="22627" y="11531"/>
                  <a:pt x="22771" y="11336"/>
                </a:cubicBezTo>
                <a:cubicBezTo>
                  <a:pt x="22779" y="11319"/>
                  <a:pt x="22788" y="11303"/>
                  <a:pt x="22796" y="11286"/>
                </a:cubicBezTo>
              </a:path>
              <a:path w="3126" h="1216">
                <a:moveTo>
                  <a:pt x="23242" y="11063"/>
                </a:moveTo>
                <a:cubicBezTo>
                  <a:pt x="23226" y="11304"/>
                  <a:pt x="23184" y="11544"/>
                  <a:pt x="23143" y="11782"/>
                </a:cubicBezTo>
                <a:cubicBezTo>
                  <a:pt x="23125" y="11873"/>
                  <a:pt x="23116" y="11880"/>
                  <a:pt x="23118" y="11931"/>
                </a:cubicBezTo>
              </a:path>
              <a:path w="3126" h="1216">
                <a:moveTo>
                  <a:pt x="23465" y="11658"/>
                </a:moveTo>
                <a:cubicBezTo>
                  <a:pt x="23465" y="11745"/>
                  <a:pt x="23439" y="11816"/>
                  <a:pt x="23490" y="11733"/>
                </a:cubicBezTo>
              </a:path>
              <a:path w="3126" h="1216">
                <a:moveTo>
                  <a:pt x="23738" y="11187"/>
                </a:moveTo>
                <a:cubicBezTo>
                  <a:pt x="23713" y="11237"/>
                  <a:pt x="23705" y="11253"/>
                  <a:pt x="23688" y="11286"/>
                </a:cubicBezTo>
                <a:cubicBezTo>
                  <a:pt x="23824" y="11320"/>
                  <a:pt x="23974" y="11386"/>
                  <a:pt x="23961" y="11559"/>
                </a:cubicBezTo>
                <a:cubicBezTo>
                  <a:pt x="23939" y="11855"/>
                  <a:pt x="23769" y="11623"/>
                  <a:pt x="23738" y="11509"/>
                </a:cubicBezTo>
              </a:path>
              <a:path w="3126" h="1216">
                <a:moveTo>
                  <a:pt x="23812" y="11137"/>
                </a:moveTo>
                <a:cubicBezTo>
                  <a:pt x="23915" y="11079"/>
                  <a:pt x="24070" y="11049"/>
                  <a:pt x="24160" y="10988"/>
                </a:cubicBezTo>
                <a:cubicBezTo>
                  <a:pt x="24152" y="10988"/>
                  <a:pt x="24143" y="10988"/>
                  <a:pt x="24135" y="10988"/>
                </a:cubicBezTo>
              </a:path>
              <a:path w="3126" h="1216">
                <a:moveTo>
                  <a:pt x="22126" y="12055"/>
                </a:moveTo>
                <a:cubicBezTo>
                  <a:pt x="22142" y="11808"/>
                  <a:pt x="22169" y="11560"/>
                  <a:pt x="22151" y="11311"/>
                </a:cubicBezTo>
                <a:cubicBezTo>
                  <a:pt x="22146" y="11237"/>
                  <a:pt x="22089" y="11080"/>
                  <a:pt x="22151" y="11038"/>
                </a:cubicBezTo>
                <a:cubicBezTo>
                  <a:pt x="22386" y="10878"/>
                  <a:pt x="22927" y="10998"/>
                  <a:pt x="23192" y="10964"/>
                </a:cubicBezTo>
                <a:cubicBezTo>
                  <a:pt x="23503" y="10924"/>
                  <a:pt x="23864" y="10778"/>
                  <a:pt x="24185" y="10840"/>
                </a:cubicBezTo>
                <a:cubicBezTo>
                  <a:pt x="24280" y="10859"/>
                  <a:pt x="24178" y="10866"/>
                  <a:pt x="24110" y="10889"/>
                </a:cubicBezTo>
              </a:path>
              <a:path w="3126" h="1216">
                <a:moveTo>
                  <a:pt x="21134" y="11237"/>
                </a:moveTo>
                <a:cubicBezTo>
                  <a:pt x="21134" y="11462"/>
                  <a:pt x="21141" y="11687"/>
                  <a:pt x="21109" y="11906"/>
                </a:cubicBezTo>
                <a:cubicBezTo>
                  <a:pt x="21109" y="11914"/>
                  <a:pt x="21109" y="11923"/>
                  <a:pt x="21109" y="11931"/>
                </a:cubicBezTo>
              </a:path>
              <a:path w="3126" h="1216">
                <a:moveTo>
                  <a:pt x="21406" y="11261"/>
                </a:moveTo>
                <a:cubicBezTo>
                  <a:pt x="21474" y="11168"/>
                  <a:pt x="21528" y="11133"/>
                  <a:pt x="21654" y="11112"/>
                </a:cubicBezTo>
                <a:cubicBezTo>
                  <a:pt x="21635" y="11278"/>
                  <a:pt x="21594" y="11359"/>
                  <a:pt x="21481" y="11485"/>
                </a:cubicBezTo>
                <a:cubicBezTo>
                  <a:pt x="21516" y="11377"/>
                  <a:pt x="21629" y="11259"/>
                  <a:pt x="21729" y="11410"/>
                </a:cubicBezTo>
                <a:cubicBezTo>
                  <a:pt x="21850" y="11594"/>
                  <a:pt x="21649" y="11719"/>
                  <a:pt x="21506" y="11733"/>
                </a:cubicBezTo>
                <a:cubicBezTo>
                  <a:pt x="21481" y="11733"/>
                  <a:pt x="21456" y="11733"/>
                  <a:pt x="21431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893000" y="4268880"/>
            <a:ext cx="814320" cy="1098360"/>
          </a:xfrm>
          <a:custGeom>
            <a:avLst/>
            <a:gdLst/>
            <a:ahLst/>
            <a:rect l="l" t="t" r="r" b="b"/>
            <a:pathLst>
              <a:path w="2259" h="3052">
                <a:moveTo>
                  <a:pt x="22423" y="12254"/>
                </a:moveTo>
                <a:cubicBezTo>
                  <a:pt x="22532" y="12230"/>
                  <a:pt x="22634" y="12190"/>
                  <a:pt x="22746" y="12179"/>
                </a:cubicBezTo>
                <a:cubicBezTo>
                  <a:pt x="22746" y="12329"/>
                  <a:pt x="22738" y="12480"/>
                  <a:pt x="22696" y="12626"/>
                </a:cubicBezTo>
                <a:cubicBezTo>
                  <a:pt x="22676" y="12666"/>
                  <a:pt x="22657" y="12682"/>
                  <a:pt x="22696" y="12675"/>
                </a:cubicBezTo>
              </a:path>
              <a:path w="2259" h="3052">
                <a:moveTo>
                  <a:pt x="23192" y="12229"/>
                </a:moveTo>
                <a:cubicBezTo>
                  <a:pt x="23175" y="12141"/>
                  <a:pt x="23120" y="12102"/>
                  <a:pt x="23019" y="12129"/>
                </a:cubicBezTo>
                <a:cubicBezTo>
                  <a:pt x="22932" y="12173"/>
                  <a:pt x="22908" y="12180"/>
                  <a:pt x="22870" y="12229"/>
                </a:cubicBezTo>
                <a:cubicBezTo>
                  <a:pt x="22920" y="12378"/>
                  <a:pt x="23035" y="12350"/>
                  <a:pt x="23143" y="12452"/>
                </a:cubicBezTo>
                <a:cubicBezTo>
                  <a:pt x="23191" y="12497"/>
                  <a:pt x="23163" y="12530"/>
                  <a:pt x="23143" y="12576"/>
                </a:cubicBezTo>
                <a:cubicBezTo>
                  <a:pt x="23044" y="12477"/>
                  <a:pt x="23056" y="12333"/>
                  <a:pt x="23143" y="12204"/>
                </a:cubicBezTo>
                <a:cubicBezTo>
                  <a:pt x="23188" y="12137"/>
                  <a:pt x="23309" y="12080"/>
                  <a:pt x="23192" y="12080"/>
                </a:cubicBezTo>
              </a:path>
              <a:path w="2259" h="3052">
                <a:moveTo>
                  <a:pt x="21927" y="12402"/>
                </a:moveTo>
                <a:cubicBezTo>
                  <a:pt x="22019" y="12402"/>
                  <a:pt x="22083" y="12392"/>
                  <a:pt x="22175" y="12378"/>
                </a:cubicBezTo>
              </a:path>
              <a:path w="2259" h="3052">
                <a:moveTo>
                  <a:pt x="22126" y="12774"/>
                </a:moveTo>
                <a:cubicBezTo>
                  <a:pt x="22426" y="12774"/>
                  <a:pt x="22720" y="12771"/>
                  <a:pt x="23019" y="12750"/>
                </a:cubicBezTo>
                <a:cubicBezTo>
                  <a:pt x="23039" y="12749"/>
                  <a:pt x="23534" y="12654"/>
                  <a:pt x="23589" y="12700"/>
                </a:cubicBezTo>
                <a:cubicBezTo>
                  <a:pt x="23589" y="12708"/>
                  <a:pt x="23589" y="12717"/>
                  <a:pt x="23589" y="12725"/>
                </a:cubicBezTo>
              </a:path>
              <a:path w="2259" h="3052">
                <a:moveTo>
                  <a:pt x="23019" y="12849"/>
                </a:moveTo>
                <a:cubicBezTo>
                  <a:pt x="23114" y="12786"/>
                  <a:pt x="22976" y="13070"/>
                  <a:pt x="22969" y="13097"/>
                </a:cubicBezTo>
                <a:cubicBezTo>
                  <a:pt x="22946" y="13194"/>
                  <a:pt x="22862" y="13391"/>
                  <a:pt x="23019" y="13419"/>
                </a:cubicBezTo>
                <a:cubicBezTo>
                  <a:pt x="23181" y="13448"/>
                  <a:pt x="23282" y="13373"/>
                  <a:pt x="23391" y="13271"/>
                </a:cubicBezTo>
                <a:cubicBezTo>
                  <a:pt x="23429" y="13235"/>
                  <a:pt x="23432" y="13195"/>
                  <a:pt x="23440" y="13146"/>
                </a:cubicBezTo>
                <a:cubicBezTo>
                  <a:pt x="23328" y="13126"/>
                  <a:pt x="23256" y="13136"/>
                  <a:pt x="23217" y="13271"/>
                </a:cubicBezTo>
                <a:cubicBezTo>
                  <a:pt x="23200" y="13329"/>
                  <a:pt x="23232" y="13368"/>
                  <a:pt x="23242" y="13419"/>
                </a:cubicBezTo>
              </a:path>
              <a:path w="2259" h="3052">
                <a:moveTo>
                  <a:pt x="24085" y="11857"/>
                </a:moveTo>
                <a:cubicBezTo>
                  <a:pt x="24085" y="12049"/>
                  <a:pt x="24101" y="12236"/>
                  <a:pt x="24110" y="12427"/>
                </a:cubicBezTo>
                <a:cubicBezTo>
                  <a:pt x="24110" y="12535"/>
                  <a:pt x="24110" y="12543"/>
                  <a:pt x="24110" y="12601"/>
                </a:cubicBezTo>
              </a:path>
              <a:path w="2259" h="3052">
                <a:moveTo>
                  <a:pt x="23887" y="12502"/>
                </a:moveTo>
                <a:cubicBezTo>
                  <a:pt x="23911" y="12539"/>
                  <a:pt x="23994" y="12700"/>
                  <a:pt x="24061" y="12601"/>
                </a:cubicBezTo>
                <a:cubicBezTo>
                  <a:pt x="24113" y="12524"/>
                  <a:pt x="24096" y="12397"/>
                  <a:pt x="24185" y="12353"/>
                </a:cubicBezTo>
              </a:path>
              <a:path w="2259" h="3052">
                <a:moveTo>
                  <a:pt x="24036" y="12799"/>
                </a:moveTo>
                <a:cubicBezTo>
                  <a:pt x="24009" y="12853"/>
                  <a:pt x="23932" y="12887"/>
                  <a:pt x="23862" y="12898"/>
                </a:cubicBezTo>
                <a:cubicBezTo>
                  <a:pt x="23826" y="12904"/>
                  <a:pt x="23777" y="12899"/>
                  <a:pt x="23763" y="12948"/>
                </a:cubicBezTo>
                <a:cubicBezTo>
                  <a:pt x="23763" y="13000"/>
                  <a:pt x="23762" y="13018"/>
                  <a:pt x="23738" y="13047"/>
                </a:cubicBezTo>
                <a:cubicBezTo>
                  <a:pt x="23841" y="13032"/>
                  <a:pt x="23914" y="13003"/>
                  <a:pt x="24011" y="13022"/>
                </a:cubicBezTo>
                <a:cubicBezTo>
                  <a:pt x="23973" y="13148"/>
                  <a:pt x="23877" y="13271"/>
                  <a:pt x="23713" y="13271"/>
                </a:cubicBezTo>
                <a:cubicBezTo>
                  <a:pt x="23705" y="13263"/>
                  <a:pt x="23696" y="13254"/>
                  <a:pt x="23688" y="13246"/>
                </a:cubicBezTo>
              </a:path>
              <a:path w="2259" h="3052">
                <a:moveTo>
                  <a:pt x="22994" y="13395"/>
                </a:moveTo>
                <a:cubicBezTo>
                  <a:pt x="23010" y="13586"/>
                  <a:pt x="23019" y="13772"/>
                  <a:pt x="23019" y="13965"/>
                </a:cubicBezTo>
                <a:cubicBezTo>
                  <a:pt x="23019" y="14077"/>
                  <a:pt x="23013" y="14109"/>
                  <a:pt x="23068" y="14163"/>
                </a:cubicBezTo>
                <a:cubicBezTo>
                  <a:pt x="23237" y="14179"/>
                  <a:pt x="23327" y="14092"/>
                  <a:pt x="23366" y="13915"/>
                </a:cubicBezTo>
                <a:cubicBezTo>
                  <a:pt x="23366" y="13890"/>
                  <a:pt x="23366" y="13866"/>
                  <a:pt x="23366" y="13841"/>
                </a:cubicBezTo>
                <a:cubicBezTo>
                  <a:pt x="23219" y="13786"/>
                  <a:pt x="23208" y="13896"/>
                  <a:pt x="23192" y="14039"/>
                </a:cubicBezTo>
                <a:cubicBezTo>
                  <a:pt x="23169" y="14246"/>
                  <a:pt x="23196" y="14206"/>
                  <a:pt x="23316" y="14114"/>
                </a:cubicBezTo>
              </a:path>
              <a:path w="2259" h="3052">
                <a:moveTo>
                  <a:pt x="23738" y="13692"/>
                </a:moveTo>
                <a:cubicBezTo>
                  <a:pt x="23761" y="13807"/>
                  <a:pt x="23791" y="13781"/>
                  <a:pt x="23937" y="13841"/>
                </a:cubicBezTo>
                <a:cubicBezTo>
                  <a:pt x="23903" y="14061"/>
                  <a:pt x="23854" y="14054"/>
                  <a:pt x="23688" y="13940"/>
                </a:cubicBezTo>
              </a:path>
              <a:path w="2259" h="3052">
                <a:moveTo>
                  <a:pt x="23713" y="13618"/>
                </a:moveTo>
                <a:cubicBezTo>
                  <a:pt x="23836" y="13557"/>
                  <a:pt x="23967" y="13442"/>
                  <a:pt x="23986" y="13519"/>
                </a:cubicBezTo>
              </a:path>
              <a:path w="2259" h="3052">
                <a:moveTo>
                  <a:pt x="22820" y="14560"/>
                </a:moveTo>
                <a:cubicBezTo>
                  <a:pt x="23196" y="14469"/>
                  <a:pt x="23588" y="14431"/>
                  <a:pt x="23961" y="14337"/>
                </a:cubicBezTo>
                <a:cubicBezTo>
                  <a:pt x="23969" y="14329"/>
                  <a:pt x="23978" y="14320"/>
                  <a:pt x="23986" y="14312"/>
                </a:cubicBezTo>
              </a:path>
              <a:path w="2259" h="3052">
                <a:moveTo>
                  <a:pt x="24036" y="14412"/>
                </a:moveTo>
                <a:cubicBezTo>
                  <a:pt x="23974" y="14582"/>
                  <a:pt x="23888" y="14712"/>
                  <a:pt x="23862" y="14908"/>
                </a:cubicBezTo>
                <a:cubicBezTo>
                  <a:pt x="24040" y="14863"/>
                  <a:pt x="24153" y="14764"/>
                  <a:pt x="24036" y="14560"/>
                </a:cubicBezTo>
                <a:cubicBezTo>
                  <a:pt x="23973" y="14498"/>
                  <a:pt x="23963" y="14481"/>
                  <a:pt x="23912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000080" y="1625760"/>
            <a:ext cx="1268280" cy="1204920"/>
          </a:xfrm>
          <a:custGeom>
            <a:avLst/>
            <a:gdLst/>
            <a:ahLst/>
            <a:rect l="l" t="t" r="r" b="b"/>
            <a:pathLst>
              <a:path w="3523" h="3350">
                <a:moveTo>
                  <a:pt x="3150" y="7863"/>
                </a:moveTo>
                <a:cubicBezTo>
                  <a:pt x="3244" y="7769"/>
                  <a:pt x="3345" y="7658"/>
                  <a:pt x="3448" y="7565"/>
                </a:cubicBezTo>
                <a:cubicBezTo>
                  <a:pt x="3714" y="7325"/>
                  <a:pt x="4019" y="7096"/>
                  <a:pt x="4316" y="6896"/>
                </a:cubicBezTo>
                <a:cubicBezTo>
                  <a:pt x="4553" y="6737"/>
                  <a:pt x="4809" y="6599"/>
                  <a:pt x="5035" y="6424"/>
                </a:cubicBezTo>
                <a:cubicBezTo>
                  <a:pt x="5257" y="6251"/>
                  <a:pt x="5523" y="6021"/>
                  <a:pt x="5705" y="5804"/>
                </a:cubicBezTo>
                <a:cubicBezTo>
                  <a:pt x="5887" y="5586"/>
                  <a:pt x="6090" y="5386"/>
                  <a:pt x="6226" y="5135"/>
                </a:cubicBezTo>
                <a:cubicBezTo>
                  <a:pt x="6280" y="5034"/>
                  <a:pt x="6328" y="4905"/>
                  <a:pt x="6300" y="4787"/>
                </a:cubicBezTo>
                <a:cubicBezTo>
                  <a:pt x="6227" y="4475"/>
                  <a:pt x="5909" y="4500"/>
                  <a:pt x="5680" y="4564"/>
                </a:cubicBezTo>
                <a:cubicBezTo>
                  <a:pt x="5360" y="4653"/>
                  <a:pt x="5157" y="4798"/>
                  <a:pt x="4911" y="5011"/>
                </a:cubicBezTo>
                <a:cubicBezTo>
                  <a:pt x="4664" y="5225"/>
                  <a:pt x="4432" y="5434"/>
                  <a:pt x="4217" y="5680"/>
                </a:cubicBezTo>
                <a:cubicBezTo>
                  <a:pt x="4029" y="5895"/>
                  <a:pt x="3828" y="6081"/>
                  <a:pt x="3621" y="6276"/>
                </a:cubicBezTo>
                <a:cubicBezTo>
                  <a:pt x="3432" y="6454"/>
                  <a:pt x="3252" y="6631"/>
                  <a:pt x="3051" y="6796"/>
                </a:cubicBezTo>
                <a:cubicBezTo>
                  <a:pt x="2899" y="6921"/>
                  <a:pt x="2797" y="7064"/>
                  <a:pt x="2778" y="7268"/>
                </a:cubicBezTo>
                <a:cubicBezTo>
                  <a:pt x="2778" y="7428"/>
                  <a:pt x="2773" y="7473"/>
                  <a:pt x="2828" y="7565"/>
                </a:cubicBezTo>
                <a:cubicBezTo>
                  <a:pt x="3011" y="7613"/>
                  <a:pt x="3098" y="7584"/>
                  <a:pt x="332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375000" y="225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376" y="6276"/>
                </a:moveTo>
                <a:lnTo>
                  <a:pt x="9376" y="6276"/>
                </a:lnTo>
                <a:lnTo>
                  <a:pt x="9376" y="6276"/>
                </a:lnTo>
                <a:lnTo>
                  <a:pt x="9376" y="62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081240" y="2955960"/>
            <a:ext cx="473040" cy="61920"/>
          </a:xfrm>
          <a:custGeom>
            <a:avLst/>
            <a:gdLst/>
            <a:ahLst/>
            <a:rect l="l" t="t" r="r" b="b"/>
            <a:pathLst>
              <a:path w="1315" h="175">
                <a:moveTo>
                  <a:pt x="8558" y="8384"/>
                </a:moveTo>
                <a:cubicBezTo>
                  <a:pt x="8844" y="8312"/>
                  <a:pt x="9134" y="8272"/>
                  <a:pt x="9426" y="8235"/>
                </a:cubicBezTo>
                <a:cubicBezTo>
                  <a:pt x="9542" y="8220"/>
                  <a:pt x="9763" y="8193"/>
                  <a:pt x="9847" y="8235"/>
                </a:cubicBezTo>
                <a:cubicBezTo>
                  <a:pt x="9855" y="8235"/>
                  <a:pt x="9864" y="8235"/>
                  <a:pt x="987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982960"/>
            <a:ext cx="10800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9525" y="8409"/>
                </a:moveTo>
                <a:cubicBezTo>
                  <a:pt x="9563" y="8314"/>
                  <a:pt x="9653" y="8314"/>
                  <a:pt x="9748" y="8285"/>
                </a:cubicBezTo>
                <a:cubicBezTo>
                  <a:pt x="9773" y="8457"/>
                  <a:pt x="9749" y="8520"/>
                  <a:pt x="9599" y="8607"/>
                </a:cubicBezTo>
                <a:cubicBezTo>
                  <a:pt x="9644" y="8504"/>
                  <a:pt x="9713" y="8530"/>
                  <a:pt x="9823" y="8558"/>
                </a:cubicBezTo>
                <a:cubicBezTo>
                  <a:pt x="9788" y="8696"/>
                  <a:pt x="9720" y="8762"/>
                  <a:pt x="9575" y="8806"/>
                </a:cubicBezTo>
                <a:cubicBezTo>
                  <a:pt x="9550" y="8806"/>
                  <a:pt x="9542" y="8806"/>
                  <a:pt x="9550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017800"/>
            <a:ext cx="115920" cy="241200"/>
          </a:xfrm>
          <a:custGeom>
            <a:avLst/>
            <a:gdLst/>
            <a:ahLst/>
            <a:rect l="l" t="t" r="r" b="b"/>
            <a:pathLst>
              <a:path w="323" h="671">
                <a:moveTo>
                  <a:pt x="10071" y="5631"/>
                </a:moveTo>
                <a:cubicBezTo>
                  <a:pt x="9946" y="5537"/>
                  <a:pt x="9947" y="5847"/>
                  <a:pt x="9947" y="6003"/>
                </a:cubicBezTo>
                <a:cubicBezTo>
                  <a:pt x="9967" y="6170"/>
                  <a:pt x="9953" y="6214"/>
                  <a:pt x="10046" y="6276"/>
                </a:cubicBezTo>
                <a:cubicBezTo>
                  <a:pt x="10174" y="6195"/>
                  <a:pt x="10429" y="5970"/>
                  <a:pt x="10195" y="5804"/>
                </a:cubicBezTo>
                <a:cubicBezTo>
                  <a:pt x="10087" y="5804"/>
                  <a:pt x="10047" y="5809"/>
                  <a:pt x="9996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652920" y="2357280"/>
            <a:ext cx="17280" cy="544680"/>
          </a:xfrm>
          <a:custGeom>
            <a:avLst/>
            <a:gdLst/>
            <a:ahLst/>
            <a:rect l="l" t="t" r="r" b="b"/>
            <a:pathLst>
              <a:path w="51" h="1515">
                <a:moveTo>
                  <a:pt x="10145" y="6548"/>
                </a:moveTo>
                <a:cubicBezTo>
                  <a:pt x="10145" y="6798"/>
                  <a:pt x="10160" y="7044"/>
                  <a:pt x="10170" y="7293"/>
                </a:cubicBezTo>
                <a:cubicBezTo>
                  <a:pt x="10177" y="7467"/>
                  <a:pt x="10195" y="7639"/>
                  <a:pt x="10195" y="7813"/>
                </a:cubicBezTo>
                <a:cubicBezTo>
                  <a:pt x="10195" y="7878"/>
                  <a:pt x="10175" y="7924"/>
                  <a:pt x="10170" y="7987"/>
                </a:cubicBezTo>
                <a:cubicBezTo>
                  <a:pt x="10170" y="8020"/>
                  <a:pt x="10170" y="8037"/>
                  <a:pt x="10170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606840" y="3000240"/>
            <a:ext cx="90360" cy="142920"/>
          </a:xfrm>
          <a:custGeom>
            <a:avLst/>
            <a:gdLst/>
            <a:ahLst/>
            <a:rect l="l" t="t" r="r" b="b"/>
            <a:pathLst>
              <a:path w="249" h="398">
                <a:moveTo>
                  <a:pt x="10170" y="8384"/>
                </a:moveTo>
                <a:cubicBezTo>
                  <a:pt x="10085" y="8299"/>
                  <a:pt x="10088" y="8316"/>
                  <a:pt x="10046" y="8483"/>
                </a:cubicBezTo>
                <a:cubicBezTo>
                  <a:pt x="10024" y="8615"/>
                  <a:pt x="10016" y="8647"/>
                  <a:pt x="10021" y="8731"/>
                </a:cubicBezTo>
                <a:cubicBezTo>
                  <a:pt x="10190" y="8714"/>
                  <a:pt x="10275" y="8668"/>
                  <a:pt x="10269" y="8483"/>
                </a:cubicBezTo>
                <a:cubicBezTo>
                  <a:pt x="10265" y="8348"/>
                  <a:pt x="10150" y="8397"/>
                  <a:pt x="10071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1982880"/>
            <a:ext cx="376200" cy="44280"/>
          </a:xfrm>
          <a:custGeom>
            <a:avLst/>
            <a:gdLst/>
            <a:ahLst/>
            <a:rect l="l" t="t" r="r" b="b"/>
            <a:pathLst>
              <a:path w="1043" h="125">
                <a:moveTo>
                  <a:pt x="9525" y="5631"/>
                </a:moveTo>
                <a:cubicBezTo>
                  <a:pt x="9494" y="5585"/>
                  <a:pt x="9597" y="5593"/>
                  <a:pt x="9674" y="5581"/>
                </a:cubicBezTo>
                <a:cubicBezTo>
                  <a:pt x="9935" y="5540"/>
                  <a:pt x="10183" y="5517"/>
                  <a:pt x="10443" y="5531"/>
                </a:cubicBezTo>
                <a:cubicBezTo>
                  <a:pt x="10494" y="5534"/>
                  <a:pt x="10499" y="5545"/>
                  <a:pt x="10542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510000" y="1795320"/>
            <a:ext cx="98280" cy="7956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9773" y="4986"/>
                </a:moveTo>
                <a:cubicBezTo>
                  <a:pt x="9760" y="5053"/>
                  <a:pt x="9690" y="5246"/>
                  <a:pt x="9847" y="5209"/>
                </a:cubicBezTo>
                <a:cubicBezTo>
                  <a:pt x="9937" y="5164"/>
                  <a:pt x="9959" y="5151"/>
                  <a:pt x="10021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571920" y="1768320"/>
            <a:ext cx="27000" cy="204840"/>
          </a:xfrm>
          <a:custGeom>
            <a:avLst/>
            <a:gdLst/>
            <a:ahLst/>
            <a:rect l="l" t="t" r="r" b="b"/>
            <a:pathLst>
              <a:path w="75" h="572">
                <a:moveTo>
                  <a:pt x="9922" y="4911"/>
                </a:moveTo>
                <a:cubicBezTo>
                  <a:pt x="9931" y="5089"/>
                  <a:pt x="9971" y="5257"/>
                  <a:pt x="9996" y="5432"/>
                </a:cubicBezTo>
                <a:cubicBezTo>
                  <a:pt x="9996" y="5449"/>
                  <a:pt x="9996" y="5465"/>
                  <a:pt x="9996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456000" y="321480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9674" y="9004"/>
                </a:moveTo>
                <a:cubicBezTo>
                  <a:pt x="9674" y="8939"/>
                  <a:pt x="9695" y="8945"/>
                  <a:pt x="9773" y="8930"/>
                </a:cubicBezTo>
                <a:cubicBezTo>
                  <a:pt x="9781" y="8930"/>
                  <a:pt x="9790" y="8930"/>
                  <a:pt x="9798" y="8930"/>
                </a:cubicBezTo>
                <a:cubicBezTo>
                  <a:pt x="9766" y="9077"/>
                  <a:pt x="9657" y="9161"/>
                  <a:pt x="9599" y="9277"/>
                </a:cubicBezTo>
                <a:cubicBezTo>
                  <a:pt x="9607" y="9277"/>
                  <a:pt x="9616" y="9277"/>
                  <a:pt x="9624" y="9277"/>
                </a:cubicBezTo>
                <a:cubicBezTo>
                  <a:pt x="9713" y="9251"/>
                  <a:pt x="9809" y="9213"/>
                  <a:pt x="9897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3598920" y="3170160"/>
            <a:ext cx="81000" cy="152640"/>
          </a:xfrm>
          <a:custGeom>
            <a:avLst/>
            <a:gdLst/>
            <a:ahLst/>
            <a:rect l="l" t="t" r="r" b="b"/>
            <a:pathLst>
              <a:path w="225" h="422">
                <a:moveTo>
                  <a:pt x="10145" y="8806"/>
                </a:moveTo>
                <a:cubicBezTo>
                  <a:pt x="10095" y="8856"/>
                  <a:pt x="10046" y="8905"/>
                  <a:pt x="9996" y="8954"/>
                </a:cubicBezTo>
                <a:cubicBezTo>
                  <a:pt x="10063" y="8988"/>
                  <a:pt x="10272" y="9042"/>
                  <a:pt x="10220" y="9153"/>
                </a:cubicBezTo>
                <a:cubicBezTo>
                  <a:pt x="10152" y="9220"/>
                  <a:pt x="10138" y="9244"/>
                  <a:pt x="10071" y="9227"/>
                </a:cubicBezTo>
                <a:cubicBezTo>
                  <a:pt x="10077" y="9187"/>
                  <a:pt x="10176" y="8910"/>
                  <a:pt x="10170" y="8905"/>
                </a:cubicBezTo>
                <a:cubicBezTo>
                  <a:pt x="10085" y="8876"/>
                  <a:pt x="10051" y="8873"/>
                  <a:pt x="9996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268800" y="3286080"/>
            <a:ext cx="115920" cy="3672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9079" y="9227"/>
                </a:moveTo>
                <a:cubicBezTo>
                  <a:pt x="9189" y="9196"/>
                  <a:pt x="9293" y="9166"/>
                  <a:pt x="9401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402000" y="3321000"/>
            <a:ext cx="312840" cy="81000"/>
          </a:xfrm>
          <a:custGeom>
            <a:avLst/>
            <a:gdLst/>
            <a:ahLst/>
            <a:rect l="l" t="t" r="r" b="b"/>
            <a:pathLst>
              <a:path w="869" h="225">
                <a:moveTo>
                  <a:pt x="9451" y="9451"/>
                </a:moveTo>
                <a:cubicBezTo>
                  <a:pt x="9729" y="9371"/>
                  <a:pt x="10010" y="9284"/>
                  <a:pt x="10294" y="9227"/>
                </a:cubicBezTo>
                <a:cubicBezTo>
                  <a:pt x="10302" y="9227"/>
                  <a:pt x="10311" y="9227"/>
                  <a:pt x="1031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643200" y="339408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10170" y="9475"/>
                </a:moveTo>
                <a:cubicBezTo>
                  <a:pt x="10101" y="9442"/>
                  <a:pt x="10288" y="9429"/>
                  <a:pt x="10319" y="9426"/>
                </a:cubicBezTo>
                <a:cubicBezTo>
                  <a:pt x="10298" y="9592"/>
                  <a:pt x="10220" y="9669"/>
                  <a:pt x="10120" y="9798"/>
                </a:cubicBezTo>
                <a:cubicBezTo>
                  <a:pt x="10226" y="9828"/>
                  <a:pt x="10307" y="9758"/>
                  <a:pt x="10418" y="9723"/>
                </a:cubicBezTo>
                <a:cubicBezTo>
                  <a:pt x="10426" y="9723"/>
                  <a:pt x="10435" y="9723"/>
                  <a:pt x="10443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705120" y="2071800"/>
            <a:ext cx="90720" cy="17928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0443" y="5779"/>
                </a:moveTo>
                <a:cubicBezTo>
                  <a:pt x="10412" y="5691"/>
                  <a:pt x="10331" y="5839"/>
                  <a:pt x="10319" y="5879"/>
                </a:cubicBezTo>
                <a:cubicBezTo>
                  <a:pt x="10297" y="5951"/>
                  <a:pt x="10287" y="6412"/>
                  <a:pt x="10492" y="6226"/>
                </a:cubicBezTo>
                <a:cubicBezTo>
                  <a:pt x="10589" y="6138"/>
                  <a:pt x="10563" y="5965"/>
                  <a:pt x="10468" y="5904"/>
                </a:cubicBezTo>
                <a:cubicBezTo>
                  <a:pt x="10427" y="5884"/>
                  <a:pt x="10421" y="5875"/>
                  <a:pt x="10393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776760" y="2303640"/>
            <a:ext cx="117360" cy="920520"/>
          </a:xfrm>
          <a:custGeom>
            <a:avLst/>
            <a:gdLst/>
            <a:ahLst/>
            <a:rect l="l" t="t" r="r" b="b"/>
            <a:pathLst>
              <a:path w="324" h="2555">
                <a:moveTo>
                  <a:pt x="10517" y="6400"/>
                </a:moveTo>
                <a:cubicBezTo>
                  <a:pt x="10496" y="6488"/>
                  <a:pt x="10482" y="6592"/>
                  <a:pt x="10492" y="6697"/>
                </a:cubicBezTo>
                <a:cubicBezTo>
                  <a:pt x="10515" y="6945"/>
                  <a:pt x="10523" y="7225"/>
                  <a:pt x="10567" y="7466"/>
                </a:cubicBezTo>
                <a:cubicBezTo>
                  <a:pt x="10595" y="7618"/>
                  <a:pt x="10660" y="7767"/>
                  <a:pt x="10691" y="7913"/>
                </a:cubicBezTo>
                <a:cubicBezTo>
                  <a:pt x="10708" y="7991"/>
                  <a:pt x="10755" y="8096"/>
                  <a:pt x="10765" y="8186"/>
                </a:cubicBezTo>
                <a:cubicBezTo>
                  <a:pt x="10786" y="8373"/>
                  <a:pt x="10773" y="8569"/>
                  <a:pt x="10790" y="8756"/>
                </a:cubicBezTo>
                <a:cubicBezTo>
                  <a:pt x="10796" y="8827"/>
                  <a:pt x="10808" y="8883"/>
                  <a:pt x="10815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3786120" y="337500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0641" y="9401"/>
                </a:moveTo>
                <a:cubicBezTo>
                  <a:pt x="10596" y="9265"/>
                  <a:pt x="10517" y="9623"/>
                  <a:pt x="10517" y="9624"/>
                </a:cubicBezTo>
                <a:cubicBezTo>
                  <a:pt x="10537" y="9725"/>
                  <a:pt x="10525" y="9756"/>
                  <a:pt x="10592" y="9773"/>
                </a:cubicBezTo>
                <a:cubicBezTo>
                  <a:pt x="10700" y="9665"/>
                  <a:pt x="10859" y="9491"/>
                  <a:pt x="10641" y="9426"/>
                </a:cubicBezTo>
                <a:cubicBezTo>
                  <a:pt x="10616" y="9426"/>
                  <a:pt x="10592" y="9426"/>
                  <a:pt x="10567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3679920" y="1724040"/>
            <a:ext cx="150840" cy="2048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10244" y="4961"/>
                </a:moveTo>
                <a:cubicBezTo>
                  <a:pt x="10202" y="4947"/>
                  <a:pt x="10217" y="4877"/>
                  <a:pt x="10244" y="4837"/>
                </a:cubicBezTo>
                <a:cubicBezTo>
                  <a:pt x="10312" y="4739"/>
                  <a:pt x="10436" y="4802"/>
                  <a:pt x="10443" y="4911"/>
                </a:cubicBezTo>
                <a:cubicBezTo>
                  <a:pt x="10451" y="5033"/>
                  <a:pt x="10338" y="5145"/>
                  <a:pt x="10319" y="5259"/>
                </a:cubicBezTo>
                <a:cubicBezTo>
                  <a:pt x="10319" y="5292"/>
                  <a:pt x="10319" y="5308"/>
                  <a:pt x="10319" y="5333"/>
                </a:cubicBezTo>
                <a:cubicBezTo>
                  <a:pt x="10319" y="5390"/>
                  <a:pt x="10337" y="5259"/>
                  <a:pt x="10344" y="5234"/>
                </a:cubicBezTo>
                <a:cubicBezTo>
                  <a:pt x="10362" y="5169"/>
                  <a:pt x="10441" y="5226"/>
                  <a:pt x="10492" y="5234"/>
                </a:cubicBezTo>
                <a:cubicBezTo>
                  <a:pt x="10573" y="5247"/>
                  <a:pt x="10612" y="5232"/>
                  <a:pt x="10641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3679920" y="3598920"/>
            <a:ext cx="1440" cy="115920"/>
          </a:xfrm>
          <a:custGeom>
            <a:avLst/>
            <a:gdLst/>
            <a:ahLst/>
            <a:rect l="l" t="t" r="r" b="b"/>
            <a:pathLst>
              <a:path w="1" h="324">
                <a:moveTo>
                  <a:pt x="10220" y="9996"/>
                </a:moveTo>
                <a:cubicBezTo>
                  <a:pt x="10220" y="10104"/>
                  <a:pt x="10220" y="10211"/>
                  <a:pt x="10220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3751200" y="3589200"/>
            <a:ext cx="71640" cy="637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0418" y="9971"/>
                </a:moveTo>
                <a:cubicBezTo>
                  <a:pt x="10418" y="10029"/>
                  <a:pt x="10418" y="10087"/>
                  <a:pt x="10418" y="10145"/>
                </a:cubicBezTo>
                <a:cubicBezTo>
                  <a:pt x="10494" y="10124"/>
                  <a:pt x="10549" y="10088"/>
                  <a:pt x="10616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813120" y="3527280"/>
            <a:ext cx="9720" cy="169920"/>
          </a:xfrm>
          <a:custGeom>
            <a:avLst/>
            <a:gdLst/>
            <a:ahLst/>
            <a:rect l="l" t="t" r="r" b="b"/>
            <a:pathLst>
              <a:path w="25" h="472">
                <a:moveTo>
                  <a:pt x="10592" y="9798"/>
                </a:moveTo>
                <a:cubicBezTo>
                  <a:pt x="10604" y="9940"/>
                  <a:pt x="10616" y="10076"/>
                  <a:pt x="10616" y="10220"/>
                </a:cubicBezTo>
                <a:cubicBezTo>
                  <a:pt x="10616" y="10244"/>
                  <a:pt x="10616" y="10253"/>
                  <a:pt x="10616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3483000" y="3652920"/>
            <a:ext cx="88920" cy="172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9674" y="10195"/>
                </a:moveTo>
                <a:cubicBezTo>
                  <a:pt x="9767" y="10179"/>
                  <a:pt x="9826" y="10158"/>
                  <a:pt x="9922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517920" y="3687840"/>
            <a:ext cx="357120" cy="63360"/>
          </a:xfrm>
          <a:custGeom>
            <a:avLst/>
            <a:gdLst/>
            <a:ahLst/>
            <a:rect l="l" t="t" r="r" b="b"/>
            <a:pathLst>
              <a:path w="993" h="175">
                <a:moveTo>
                  <a:pt x="9773" y="10418"/>
                </a:moveTo>
                <a:cubicBezTo>
                  <a:pt x="10071" y="10372"/>
                  <a:pt x="10370" y="10324"/>
                  <a:pt x="10666" y="10269"/>
                </a:cubicBezTo>
                <a:cubicBezTo>
                  <a:pt x="10699" y="10261"/>
                  <a:pt x="10732" y="10252"/>
                  <a:pt x="10765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643200" y="3990960"/>
            <a:ext cx="71640" cy="9720"/>
          </a:xfrm>
          <a:custGeom>
            <a:avLst/>
            <a:gdLst/>
            <a:ahLst/>
            <a:rect l="l" t="t" r="r" b="b"/>
            <a:pathLst>
              <a:path w="200" h="25">
                <a:moveTo>
                  <a:pt x="10120" y="11112"/>
                </a:moveTo>
                <a:cubicBezTo>
                  <a:pt x="10219" y="11088"/>
                  <a:pt x="10251" y="11080"/>
                  <a:pt x="10319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652920" y="4044960"/>
            <a:ext cx="561960" cy="81000"/>
          </a:xfrm>
          <a:custGeom>
            <a:avLst/>
            <a:gdLst/>
            <a:ahLst/>
            <a:rect l="l" t="t" r="r" b="b"/>
            <a:pathLst>
              <a:path w="1564" h="224">
                <a:moveTo>
                  <a:pt x="10145" y="11460"/>
                </a:moveTo>
                <a:cubicBezTo>
                  <a:pt x="10425" y="11460"/>
                  <a:pt x="10663" y="11387"/>
                  <a:pt x="10939" y="11336"/>
                </a:cubicBezTo>
                <a:cubicBezTo>
                  <a:pt x="11143" y="11298"/>
                  <a:pt x="11518" y="11337"/>
                  <a:pt x="11708" y="11261"/>
                </a:cubicBezTo>
                <a:cubicBezTo>
                  <a:pt x="11708" y="11253"/>
                  <a:pt x="11708" y="11245"/>
                  <a:pt x="11708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4010040" y="4125960"/>
            <a:ext cx="889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1212" y="11460"/>
                </a:moveTo>
                <a:cubicBezTo>
                  <a:pt x="11183" y="11488"/>
                  <a:pt x="11151" y="11594"/>
                  <a:pt x="11137" y="11658"/>
                </a:cubicBezTo>
                <a:cubicBezTo>
                  <a:pt x="11235" y="11648"/>
                  <a:pt x="11294" y="11623"/>
                  <a:pt x="1138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089240" y="4089240"/>
            <a:ext cx="27000" cy="196920"/>
          </a:xfrm>
          <a:custGeom>
            <a:avLst/>
            <a:gdLst/>
            <a:ahLst/>
            <a:rect l="l" t="t" r="r" b="b"/>
            <a:pathLst>
              <a:path w="75" h="546">
                <a:moveTo>
                  <a:pt x="11435" y="11361"/>
                </a:moveTo>
                <a:cubicBezTo>
                  <a:pt x="11411" y="11500"/>
                  <a:pt x="11409" y="11640"/>
                  <a:pt x="11385" y="11782"/>
                </a:cubicBezTo>
                <a:cubicBezTo>
                  <a:pt x="11367" y="11856"/>
                  <a:pt x="11359" y="11863"/>
                  <a:pt x="11361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194616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9823" y="5556"/>
                </a:moveTo>
                <a:cubicBezTo>
                  <a:pt x="9870" y="5520"/>
                  <a:pt x="9959" y="5490"/>
                  <a:pt x="10021" y="5482"/>
                </a:cubicBezTo>
                <a:cubicBezTo>
                  <a:pt x="10066" y="5476"/>
                  <a:pt x="10226" y="5510"/>
                  <a:pt x="10120" y="5482"/>
                </a:cubicBezTo>
                <a:cubicBezTo>
                  <a:pt x="10059" y="5466"/>
                  <a:pt x="10032" y="5457"/>
                  <a:pt x="9971" y="5457"/>
                </a:cubicBezTo>
                <a:cubicBezTo>
                  <a:pt x="10051" y="5457"/>
                  <a:pt x="10116" y="5456"/>
                  <a:pt x="10195" y="5432"/>
                </a:cubicBezTo>
                <a:cubicBezTo>
                  <a:pt x="10267" y="5410"/>
                  <a:pt x="10045" y="5419"/>
                  <a:pt x="9971" y="5407"/>
                </a:cubicBezTo>
                <a:cubicBezTo>
                  <a:pt x="9848" y="5407"/>
                  <a:pt x="10037" y="5424"/>
                  <a:pt x="10071" y="5432"/>
                </a:cubicBezTo>
                <a:cubicBezTo>
                  <a:pt x="10145" y="5451"/>
                  <a:pt x="9922" y="5420"/>
                  <a:pt x="9847" y="5407"/>
                </a:cubicBezTo>
                <a:cubicBezTo>
                  <a:pt x="9823" y="5407"/>
                  <a:pt x="9815" y="5407"/>
                  <a:pt x="9847" y="5407"/>
                </a:cubicBezTo>
                <a:cubicBezTo>
                  <a:pt x="9905" y="5425"/>
                  <a:pt x="10076" y="5450"/>
                  <a:pt x="10046" y="5457"/>
                </a:cubicBezTo>
                <a:cubicBezTo>
                  <a:pt x="9932" y="5486"/>
                  <a:pt x="9883" y="5494"/>
                  <a:pt x="9798" y="5482"/>
                </a:cubicBezTo>
                <a:cubicBezTo>
                  <a:pt x="9859" y="5482"/>
                  <a:pt x="9942" y="5403"/>
                  <a:pt x="9971" y="5457"/>
                </a:cubicBezTo>
                <a:cubicBezTo>
                  <a:pt x="9987" y="5487"/>
                  <a:pt x="9733" y="5498"/>
                  <a:pt x="9823" y="5507"/>
                </a:cubicBezTo>
                <a:cubicBezTo>
                  <a:pt x="9872" y="5507"/>
                  <a:pt x="9889" y="5507"/>
                  <a:pt x="9922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3313080" y="194616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9277" y="5457"/>
                </a:moveTo>
                <a:cubicBezTo>
                  <a:pt x="9254" y="5434"/>
                  <a:pt x="9246" y="5430"/>
                  <a:pt x="9252" y="5407"/>
                </a:cubicBezTo>
                <a:cubicBezTo>
                  <a:pt x="9210" y="5407"/>
                  <a:pt x="9214" y="5397"/>
                  <a:pt x="9203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670800" y="2625840"/>
            <a:ext cx="1322280" cy="581040"/>
          </a:xfrm>
          <a:custGeom>
            <a:avLst/>
            <a:gdLst/>
            <a:ahLst/>
            <a:rect l="l" t="t" r="r" b="b"/>
            <a:pathLst>
              <a:path w="3672" h="1613">
                <a:moveTo>
                  <a:pt x="22027" y="7317"/>
                </a:moveTo>
                <a:cubicBezTo>
                  <a:pt x="21790" y="7363"/>
                  <a:pt x="21548" y="7410"/>
                  <a:pt x="21307" y="7441"/>
                </a:cubicBezTo>
                <a:cubicBezTo>
                  <a:pt x="20968" y="7485"/>
                  <a:pt x="20630" y="7493"/>
                  <a:pt x="20290" y="7516"/>
                </a:cubicBezTo>
                <a:cubicBezTo>
                  <a:pt x="20054" y="7532"/>
                  <a:pt x="19808" y="7565"/>
                  <a:pt x="19571" y="7541"/>
                </a:cubicBezTo>
                <a:cubicBezTo>
                  <a:pt x="19421" y="7526"/>
                  <a:pt x="19275" y="7495"/>
                  <a:pt x="19124" y="7491"/>
                </a:cubicBezTo>
                <a:cubicBezTo>
                  <a:pt x="18990" y="7487"/>
                  <a:pt x="18859" y="7497"/>
                  <a:pt x="18728" y="7516"/>
                </a:cubicBezTo>
                <a:cubicBezTo>
                  <a:pt x="18674" y="7524"/>
                  <a:pt x="18604" y="7557"/>
                  <a:pt x="18554" y="7565"/>
                </a:cubicBezTo>
                <a:cubicBezTo>
                  <a:pt x="18546" y="7565"/>
                  <a:pt x="18537" y="7565"/>
                  <a:pt x="18529" y="7565"/>
                </a:cubicBezTo>
                <a:cubicBezTo>
                  <a:pt x="18564" y="7802"/>
                  <a:pt x="18628" y="8044"/>
                  <a:pt x="18628" y="8285"/>
                </a:cubicBezTo>
                <a:cubicBezTo>
                  <a:pt x="18628" y="8482"/>
                  <a:pt x="18599" y="8685"/>
                  <a:pt x="18579" y="8880"/>
                </a:cubicBezTo>
                <a:cubicBezTo>
                  <a:pt x="18579" y="8888"/>
                  <a:pt x="18579" y="8897"/>
                  <a:pt x="18579" y="8905"/>
                </a:cubicBezTo>
                <a:cubicBezTo>
                  <a:pt x="18802" y="8896"/>
                  <a:pt x="18979" y="8844"/>
                  <a:pt x="19199" y="8806"/>
                </a:cubicBezTo>
                <a:cubicBezTo>
                  <a:pt x="19661" y="8726"/>
                  <a:pt x="20126" y="8664"/>
                  <a:pt x="20588" y="8582"/>
                </a:cubicBezTo>
                <a:cubicBezTo>
                  <a:pt x="20879" y="8530"/>
                  <a:pt x="21160" y="8487"/>
                  <a:pt x="21456" y="8483"/>
                </a:cubicBezTo>
                <a:cubicBezTo>
                  <a:pt x="21630" y="8480"/>
                  <a:pt x="21807" y="8462"/>
                  <a:pt x="21977" y="8434"/>
                </a:cubicBezTo>
                <a:cubicBezTo>
                  <a:pt x="22059" y="8420"/>
                  <a:pt x="22117" y="8413"/>
                  <a:pt x="22200" y="8409"/>
                </a:cubicBezTo>
                <a:cubicBezTo>
                  <a:pt x="22189" y="8318"/>
                  <a:pt x="22187" y="8227"/>
                  <a:pt x="22175" y="8136"/>
                </a:cubicBezTo>
                <a:cubicBezTo>
                  <a:pt x="22152" y="7959"/>
                  <a:pt x="22106" y="7794"/>
                  <a:pt x="22101" y="7615"/>
                </a:cubicBezTo>
                <a:cubicBezTo>
                  <a:pt x="22099" y="7537"/>
                  <a:pt x="22082" y="7489"/>
                  <a:pt x="22076" y="7417"/>
                </a:cubicBezTo>
                <a:cubicBezTo>
                  <a:pt x="22073" y="7376"/>
                  <a:pt x="22078" y="7334"/>
                  <a:pt x="22076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535040" y="6348240"/>
            <a:ext cx="54000" cy="28800"/>
          </a:xfrm>
          <a:custGeom>
            <a:avLst/>
            <a:gdLst/>
            <a:ahLst/>
            <a:rect l="l" t="t" r="r" b="b"/>
            <a:pathLst>
              <a:path w="150" h="76">
                <a:moveTo>
                  <a:pt x="4266" y="17711"/>
                </a:moveTo>
                <a:cubicBezTo>
                  <a:pt x="4334" y="17671"/>
                  <a:pt x="4371" y="17631"/>
                  <a:pt x="4415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527120" y="6419880"/>
            <a:ext cx="108000" cy="36360"/>
          </a:xfrm>
          <a:custGeom>
            <a:avLst/>
            <a:gdLst/>
            <a:ahLst/>
            <a:rect l="l" t="t" r="r" b="b"/>
            <a:pathLst>
              <a:path w="298" h="100">
                <a:moveTo>
                  <a:pt x="4242" y="17934"/>
                </a:moveTo>
                <a:cubicBezTo>
                  <a:pt x="4342" y="17894"/>
                  <a:pt x="4435" y="17854"/>
                  <a:pt x="4539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062240" y="5268960"/>
            <a:ext cx="135000" cy="258840"/>
          </a:xfrm>
          <a:custGeom>
            <a:avLst/>
            <a:gdLst/>
            <a:ahLst/>
            <a:rect l="l" t="t" r="r" b="b"/>
            <a:pathLst>
              <a:path w="373" h="720">
                <a:moveTo>
                  <a:pt x="11336" y="14660"/>
                </a:moveTo>
                <a:cubicBezTo>
                  <a:pt x="11336" y="14560"/>
                  <a:pt x="11325" y="14809"/>
                  <a:pt x="11311" y="14908"/>
                </a:cubicBezTo>
                <a:cubicBezTo>
                  <a:pt x="11299" y="14992"/>
                  <a:pt x="11215" y="15302"/>
                  <a:pt x="11336" y="15354"/>
                </a:cubicBezTo>
                <a:cubicBezTo>
                  <a:pt x="11426" y="15393"/>
                  <a:pt x="11586" y="15307"/>
                  <a:pt x="11633" y="15230"/>
                </a:cubicBezTo>
                <a:cubicBezTo>
                  <a:pt x="11667" y="15175"/>
                  <a:pt x="11658" y="15116"/>
                  <a:pt x="11658" y="15056"/>
                </a:cubicBezTo>
                <a:cubicBezTo>
                  <a:pt x="11548" y="15086"/>
                  <a:pt x="11460" y="15186"/>
                  <a:pt x="11460" y="15329"/>
                </a:cubicBezTo>
                <a:cubicBezTo>
                  <a:pt x="11495" y="15329"/>
                  <a:pt x="11512" y="15324"/>
                  <a:pt x="11534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259160" y="54291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11832" y="15081"/>
                </a:moveTo>
                <a:cubicBezTo>
                  <a:pt x="11832" y="15098"/>
                  <a:pt x="11832" y="15114"/>
                  <a:pt x="11832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330800" y="5268960"/>
            <a:ext cx="117360" cy="44280"/>
          </a:xfrm>
          <a:custGeom>
            <a:avLst/>
            <a:gdLst/>
            <a:ahLst/>
            <a:rect l="l" t="t" r="r" b="b"/>
            <a:pathLst>
              <a:path w="324" h="125">
                <a:moveTo>
                  <a:pt x="12030" y="14759"/>
                </a:moveTo>
                <a:cubicBezTo>
                  <a:pt x="12100" y="14740"/>
                  <a:pt x="12278" y="14606"/>
                  <a:pt x="12353" y="14635"/>
                </a:cubicBezTo>
                <a:cubicBezTo>
                  <a:pt x="12353" y="14643"/>
                  <a:pt x="12353" y="14652"/>
                  <a:pt x="12353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768840" y="5607000"/>
            <a:ext cx="81000" cy="100080"/>
          </a:xfrm>
          <a:custGeom>
            <a:avLst/>
            <a:gdLst/>
            <a:ahLst/>
            <a:rect l="l" t="t" r="r" b="b"/>
            <a:pathLst>
              <a:path w="224" h="274">
                <a:moveTo>
                  <a:pt x="10468" y="15577"/>
                </a:moveTo>
                <a:cubicBezTo>
                  <a:pt x="10548" y="15665"/>
                  <a:pt x="10615" y="15760"/>
                  <a:pt x="10691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786120" y="5572080"/>
            <a:ext cx="54000" cy="196920"/>
          </a:xfrm>
          <a:custGeom>
            <a:avLst/>
            <a:gdLst/>
            <a:ahLst/>
            <a:rect l="l" t="t" r="r" b="b"/>
            <a:pathLst>
              <a:path w="150" h="547">
                <a:moveTo>
                  <a:pt x="10666" y="15478"/>
                </a:moveTo>
                <a:cubicBezTo>
                  <a:pt x="10629" y="15668"/>
                  <a:pt x="10562" y="15845"/>
                  <a:pt x="10517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4125960" y="5589720"/>
            <a:ext cx="27000" cy="134640"/>
          </a:xfrm>
          <a:custGeom>
            <a:avLst/>
            <a:gdLst/>
            <a:ahLst/>
            <a:rect l="l" t="t" r="r" b="b"/>
            <a:pathLst>
              <a:path w="75" h="373">
                <a:moveTo>
                  <a:pt x="11460" y="15528"/>
                </a:moveTo>
                <a:cubicBezTo>
                  <a:pt x="11472" y="15635"/>
                  <a:pt x="11472" y="15912"/>
                  <a:pt x="11534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286160" y="5527800"/>
            <a:ext cx="142920" cy="1602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1906" y="15429"/>
                </a:moveTo>
                <a:cubicBezTo>
                  <a:pt x="11978" y="15411"/>
                  <a:pt x="12067" y="15317"/>
                  <a:pt x="12154" y="15354"/>
                </a:cubicBezTo>
                <a:cubicBezTo>
                  <a:pt x="12258" y="15398"/>
                  <a:pt x="12077" y="15551"/>
                  <a:pt x="12055" y="15577"/>
                </a:cubicBezTo>
                <a:cubicBezTo>
                  <a:pt x="12047" y="15585"/>
                  <a:pt x="12038" y="15594"/>
                  <a:pt x="12030" y="15602"/>
                </a:cubicBezTo>
                <a:cubicBezTo>
                  <a:pt x="12062" y="15579"/>
                  <a:pt x="12333" y="15430"/>
                  <a:pt x="12303" y="15602"/>
                </a:cubicBezTo>
                <a:cubicBezTo>
                  <a:pt x="12280" y="15736"/>
                  <a:pt x="12106" y="15799"/>
                  <a:pt x="1200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821040" y="5759280"/>
            <a:ext cx="822240" cy="63720"/>
          </a:xfrm>
          <a:custGeom>
            <a:avLst/>
            <a:gdLst/>
            <a:ahLst/>
            <a:rect l="l" t="t" r="r" b="b"/>
            <a:pathLst>
              <a:path w="2283" h="175">
                <a:moveTo>
                  <a:pt x="10616" y="16173"/>
                </a:moveTo>
                <a:cubicBezTo>
                  <a:pt x="10901" y="16164"/>
                  <a:pt x="11150" y="16121"/>
                  <a:pt x="11435" y="16073"/>
                </a:cubicBezTo>
                <a:cubicBezTo>
                  <a:pt x="11872" y="15999"/>
                  <a:pt x="12354" y="15944"/>
                  <a:pt x="12799" y="15999"/>
                </a:cubicBezTo>
                <a:cubicBezTo>
                  <a:pt x="12823" y="16002"/>
                  <a:pt x="12875" y="16037"/>
                  <a:pt x="12898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367160" y="5769000"/>
            <a:ext cx="125640" cy="196920"/>
          </a:xfrm>
          <a:custGeom>
            <a:avLst/>
            <a:gdLst/>
            <a:ahLst/>
            <a:rect l="l" t="t" r="r" b="b"/>
            <a:pathLst>
              <a:path w="349" h="547">
                <a:moveTo>
                  <a:pt x="12303" y="16024"/>
                </a:moveTo>
                <a:cubicBezTo>
                  <a:pt x="12278" y="16029"/>
                  <a:pt x="12191" y="16055"/>
                  <a:pt x="12179" y="16073"/>
                </a:cubicBezTo>
                <a:cubicBezTo>
                  <a:pt x="12158" y="16104"/>
                  <a:pt x="12160" y="16258"/>
                  <a:pt x="12154" y="16297"/>
                </a:cubicBezTo>
                <a:cubicBezTo>
                  <a:pt x="12225" y="16297"/>
                  <a:pt x="12280" y="16263"/>
                  <a:pt x="12353" y="16272"/>
                </a:cubicBezTo>
                <a:cubicBezTo>
                  <a:pt x="12501" y="16291"/>
                  <a:pt x="12521" y="16375"/>
                  <a:pt x="12402" y="16470"/>
                </a:cubicBezTo>
                <a:cubicBezTo>
                  <a:pt x="12335" y="16523"/>
                  <a:pt x="12150" y="16646"/>
                  <a:pt x="12129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3973680" y="5054760"/>
            <a:ext cx="18720" cy="169560"/>
          </a:xfrm>
          <a:custGeom>
            <a:avLst/>
            <a:gdLst/>
            <a:ahLst/>
            <a:rect l="l" t="t" r="r" b="b"/>
            <a:pathLst>
              <a:path w="51" h="473">
                <a:moveTo>
                  <a:pt x="11038" y="14039"/>
                </a:moveTo>
                <a:cubicBezTo>
                  <a:pt x="11072" y="14200"/>
                  <a:pt x="11088" y="14347"/>
                  <a:pt x="11088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973680" y="5823000"/>
            <a:ext cx="36360" cy="20484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1137" y="16173"/>
                </a:moveTo>
                <a:cubicBezTo>
                  <a:pt x="11119" y="16355"/>
                  <a:pt x="11073" y="16518"/>
                  <a:pt x="11038" y="16694"/>
                </a:cubicBezTo>
                <a:cubicBezTo>
                  <a:pt x="11038" y="16735"/>
                  <a:pt x="11038" y="16759"/>
                  <a:pt x="11038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081320" y="5830920"/>
            <a:ext cx="106560" cy="162000"/>
          </a:xfrm>
          <a:custGeom>
            <a:avLst/>
            <a:gdLst/>
            <a:ahLst/>
            <a:rect l="l" t="t" r="r" b="b"/>
            <a:pathLst>
              <a:path w="298" h="448">
                <a:moveTo>
                  <a:pt x="11609" y="16346"/>
                </a:moveTo>
                <a:cubicBezTo>
                  <a:pt x="11643" y="16323"/>
                  <a:pt x="11642" y="16253"/>
                  <a:pt x="11584" y="16222"/>
                </a:cubicBezTo>
                <a:cubicBezTo>
                  <a:pt x="11483" y="16169"/>
                  <a:pt x="11404" y="16189"/>
                  <a:pt x="11361" y="16297"/>
                </a:cubicBezTo>
                <a:cubicBezTo>
                  <a:pt x="11340" y="16379"/>
                  <a:pt x="11332" y="16395"/>
                  <a:pt x="11336" y="16446"/>
                </a:cubicBezTo>
                <a:cubicBezTo>
                  <a:pt x="11471" y="16446"/>
                  <a:pt x="11527" y="16455"/>
                  <a:pt x="11584" y="16321"/>
                </a:cubicBezTo>
                <a:cubicBezTo>
                  <a:pt x="11604" y="16261"/>
                  <a:pt x="11623" y="16246"/>
                  <a:pt x="11584" y="16222"/>
                </a:cubicBezTo>
                <a:cubicBezTo>
                  <a:pt x="11584" y="16349"/>
                  <a:pt x="11565" y="16468"/>
                  <a:pt x="11559" y="16594"/>
                </a:cubicBezTo>
                <a:cubicBezTo>
                  <a:pt x="11559" y="16619"/>
                  <a:pt x="11559" y="16627"/>
                  <a:pt x="11559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4321080" y="5537160"/>
            <a:ext cx="152640" cy="160200"/>
          </a:xfrm>
          <a:custGeom>
            <a:avLst/>
            <a:gdLst/>
            <a:ahLst/>
            <a:rect l="l" t="t" r="r" b="b"/>
            <a:pathLst>
              <a:path w="423" h="447">
                <a:moveTo>
                  <a:pt x="12005" y="15404"/>
                </a:moveTo>
                <a:cubicBezTo>
                  <a:pt x="12005" y="15396"/>
                  <a:pt x="12005" y="15387"/>
                  <a:pt x="12005" y="15379"/>
                </a:cubicBezTo>
                <a:cubicBezTo>
                  <a:pt x="12130" y="15432"/>
                  <a:pt x="12260" y="15545"/>
                  <a:pt x="12353" y="15652"/>
                </a:cubicBezTo>
                <a:cubicBezTo>
                  <a:pt x="12403" y="15710"/>
                  <a:pt x="12406" y="15755"/>
                  <a:pt x="1242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348080" y="603720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2328" y="16818"/>
                </a:moveTo>
                <a:cubicBezTo>
                  <a:pt x="12328" y="16810"/>
                  <a:pt x="12328" y="16801"/>
                  <a:pt x="12328" y="16793"/>
                </a:cubicBezTo>
                <a:cubicBezTo>
                  <a:pt x="12229" y="16733"/>
                  <a:pt x="12204" y="16800"/>
                  <a:pt x="12154" y="16892"/>
                </a:cubicBezTo>
                <a:cubicBezTo>
                  <a:pt x="12088" y="17013"/>
                  <a:pt x="12080" y="17056"/>
                  <a:pt x="12129" y="17165"/>
                </a:cubicBezTo>
                <a:cubicBezTo>
                  <a:pt x="12258" y="17155"/>
                  <a:pt x="12399" y="17135"/>
                  <a:pt x="12452" y="16991"/>
                </a:cubicBezTo>
                <a:cubicBezTo>
                  <a:pt x="12469" y="16945"/>
                  <a:pt x="12443" y="16758"/>
                  <a:pt x="12378" y="16768"/>
                </a:cubicBezTo>
                <a:cubicBezTo>
                  <a:pt x="12353" y="16776"/>
                  <a:pt x="12328" y="16785"/>
                  <a:pt x="12303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4106880" y="6045120"/>
            <a:ext cx="125280" cy="196920"/>
          </a:xfrm>
          <a:custGeom>
            <a:avLst/>
            <a:gdLst/>
            <a:ahLst/>
            <a:rect l="l" t="t" r="r" b="b"/>
            <a:pathLst>
              <a:path w="348" h="546">
                <a:moveTo>
                  <a:pt x="11733" y="16842"/>
                </a:moveTo>
                <a:cubicBezTo>
                  <a:pt x="11741" y="16834"/>
                  <a:pt x="11749" y="16826"/>
                  <a:pt x="11757" y="16818"/>
                </a:cubicBezTo>
                <a:cubicBezTo>
                  <a:pt x="11672" y="16818"/>
                  <a:pt x="11583" y="16818"/>
                  <a:pt x="11534" y="16793"/>
                </a:cubicBezTo>
                <a:cubicBezTo>
                  <a:pt x="11495" y="16774"/>
                  <a:pt x="11469" y="16798"/>
                  <a:pt x="11460" y="16818"/>
                </a:cubicBezTo>
                <a:cubicBezTo>
                  <a:pt x="11429" y="16885"/>
                  <a:pt x="11435" y="16943"/>
                  <a:pt x="11435" y="17016"/>
                </a:cubicBezTo>
                <a:cubicBezTo>
                  <a:pt x="11480" y="17008"/>
                  <a:pt x="11588" y="16943"/>
                  <a:pt x="11633" y="16966"/>
                </a:cubicBezTo>
                <a:cubicBezTo>
                  <a:pt x="11731" y="17015"/>
                  <a:pt x="11711" y="17134"/>
                  <a:pt x="11683" y="17214"/>
                </a:cubicBezTo>
                <a:cubicBezTo>
                  <a:pt x="11651" y="17306"/>
                  <a:pt x="11544" y="17344"/>
                  <a:pt x="11460" y="17314"/>
                </a:cubicBezTo>
                <a:cubicBezTo>
                  <a:pt x="11435" y="17305"/>
                  <a:pt x="11414" y="17251"/>
                  <a:pt x="11410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902040" y="607212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0914" y="16867"/>
                </a:moveTo>
                <a:cubicBezTo>
                  <a:pt x="10963" y="16883"/>
                  <a:pt x="10901" y="17018"/>
                  <a:pt x="10889" y="17066"/>
                </a:cubicBezTo>
                <a:cubicBezTo>
                  <a:pt x="10866" y="17161"/>
                  <a:pt x="10808" y="17271"/>
                  <a:pt x="10864" y="17363"/>
                </a:cubicBezTo>
                <a:cubicBezTo>
                  <a:pt x="10901" y="17424"/>
                  <a:pt x="11060" y="17388"/>
                  <a:pt x="11112" y="17363"/>
                </a:cubicBezTo>
                <a:cubicBezTo>
                  <a:pt x="11184" y="17329"/>
                  <a:pt x="11247" y="17269"/>
                  <a:pt x="11261" y="17190"/>
                </a:cubicBezTo>
                <a:cubicBezTo>
                  <a:pt x="11261" y="17182"/>
                  <a:pt x="11261" y="17173"/>
                  <a:pt x="11261" y="17165"/>
                </a:cubicBezTo>
                <a:cubicBezTo>
                  <a:pt x="11159" y="17148"/>
                  <a:pt x="11144" y="17102"/>
                  <a:pt x="11088" y="17214"/>
                </a:cubicBezTo>
                <a:cubicBezTo>
                  <a:pt x="11058" y="17275"/>
                  <a:pt x="11063" y="17324"/>
                  <a:pt x="11063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867120" y="6232680"/>
            <a:ext cx="758880" cy="54000"/>
          </a:xfrm>
          <a:custGeom>
            <a:avLst/>
            <a:gdLst/>
            <a:ahLst/>
            <a:rect l="l" t="t" r="r" b="b"/>
            <a:pathLst>
              <a:path w="2110" h="149">
                <a:moveTo>
                  <a:pt x="10765" y="17462"/>
                </a:moveTo>
                <a:cubicBezTo>
                  <a:pt x="10849" y="17462"/>
                  <a:pt x="10880" y="17443"/>
                  <a:pt x="10964" y="17438"/>
                </a:cubicBezTo>
                <a:cubicBezTo>
                  <a:pt x="11206" y="17423"/>
                  <a:pt x="11442" y="17397"/>
                  <a:pt x="11683" y="17363"/>
                </a:cubicBezTo>
                <a:cubicBezTo>
                  <a:pt x="11904" y="17332"/>
                  <a:pt x="12130" y="17319"/>
                  <a:pt x="12353" y="17314"/>
                </a:cubicBezTo>
                <a:cubicBezTo>
                  <a:pt x="12518" y="17310"/>
                  <a:pt x="12684" y="17314"/>
                  <a:pt x="12849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384800" y="6276960"/>
            <a:ext cx="115920" cy="162000"/>
          </a:xfrm>
          <a:custGeom>
            <a:avLst/>
            <a:gdLst/>
            <a:ahLst/>
            <a:rect l="l" t="t" r="r" b="b"/>
            <a:pathLst>
              <a:path w="324" h="447">
                <a:moveTo>
                  <a:pt x="12427" y="17438"/>
                </a:moveTo>
                <a:cubicBezTo>
                  <a:pt x="12365" y="17438"/>
                  <a:pt x="12314" y="17457"/>
                  <a:pt x="12254" y="17462"/>
                </a:cubicBezTo>
                <a:cubicBezTo>
                  <a:pt x="12190" y="17468"/>
                  <a:pt x="12188" y="17557"/>
                  <a:pt x="12179" y="17611"/>
                </a:cubicBezTo>
                <a:cubicBezTo>
                  <a:pt x="12179" y="17628"/>
                  <a:pt x="12179" y="17644"/>
                  <a:pt x="12179" y="17661"/>
                </a:cubicBezTo>
                <a:cubicBezTo>
                  <a:pt x="12239" y="17661"/>
                  <a:pt x="12326" y="17632"/>
                  <a:pt x="12378" y="17636"/>
                </a:cubicBezTo>
                <a:cubicBezTo>
                  <a:pt x="12438" y="17641"/>
                  <a:pt x="12518" y="17691"/>
                  <a:pt x="12502" y="17760"/>
                </a:cubicBezTo>
                <a:cubicBezTo>
                  <a:pt x="12481" y="17847"/>
                  <a:pt x="12378" y="17878"/>
                  <a:pt x="12303" y="17884"/>
                </a:cubicBezTo>
                <a:cubicBezTo>
                  <a:pt x="12275" y="17884"/>
                  <a:pt x="12264" y="17882"/>
                  <a:pt x="12254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4152960" y="6303960"/>
            <a:ext cx="71280" cy="7308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1633" y="17512"/>
                </a:moveTo>
                <a:cubicBezTo>
                  <a:pt x="11600" y="17579"/>
                  <a:pt x="11567" y="17645"/>
                  <a:pt x="11534" y="17711"/>
                </a:cubicBezTo>
                <a:cubicBezTo>
                  <a:pt x="11599" y="17711"/>
                  <a:pt x="11658" y="17726"/>
                  <a:pt x="11708" y="17686"/>
                </a:cubicBezTo>
                <a:cubicBezTo>
                  <a:pt x="11716" y="17678"/>
                  <a:pt x="11725" y="17669"/>
                  <a:pt x="11733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205160" y="6286680"/>
            <a:ext cx="27000" cy="179280"/>
          </a:xfrm>
          <a:custGeom>
            <a:avLst/>
            <a:gdLst/>
            <a:ahLst/>
            <a:rect l="l" t="t" r="r" b="b"/>
            <a:pathLst>
              <a:path w="75" h="498">
                <a:moveTo>
                  <a:pt x="11757" y="17462"/>
                </a:moveTo>
                <a:cubicBezTo>
                  <a:pt x="11719" y="17515"/>
                  <a:pt x="11693" y="17741"/>
                  <a:pt x="11683" y="17835"/>
                </a:cubicBezTo>
                <a:cubicBezTo>
                  <a:pt x="11677" y="17893"/>
                  <a:pt x="11683" y="17967"/>
                  <a:pt x="1168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894120" y="5749920"/>
            <a:ext cx="4464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10939" y="15974"/>
                </a:moveTo>
                <a:cubicBezTo>
                  <a:pt x="10900" y="16081"/>
                  <a:pt x="10851" y="16189"/>
                  <a:pt x="10815" y="16297"/>
                </a:cubicBezTo>
                <a:cubicBezTo>
                  <a:pt x="10815" y="16305"/>
                  <a:pt x="10815" y="16313"/>
                  <a:pt x="10815" y="16321"/>
                </a:cubicBezTo>
                <a:cubicBezTo>
                  <a:pt x="10824" y="16256"/>
                  <a:pt x="10830" y="16028"/>
                  <a:pt x="10889" y="15999"/>
                </a:cubicBezTo>
                <a:cubicBezTo>
                  <a:pt x="10889" y="16016"/>
                  <a:pt x="10889" y="16032"/>
                  <a:pt x="10889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3902040" y="6330960"/>
            <a:ext cx="152280" cy="196920"/>
          </a:xfrm>
          <a:custGeom>
            <a:avLst/>
            <a:gdLst/>
            <a:ahLst/>
            <a:rect l="l" t="t" r="r" b="b"/>
            <a:pathLst>
              <a:path w="422" h="546">
                <a:moveTo>
                  <a:pt x="11063" y="17661"/>
                </a:moveTo>
                <a:cubicBezTo>
                  <a:pt x="11151" y="17632"/>
                  <a:pt x="10994" y="17605"/>
                  <a:pt x="10964" y="17611"/>
                </a:cubicBezTo>
                <a:cubicBezTo>
                  <a:pt x="10892" y="17625"/>
                  <a:pt x="10859" y="17704"/>
                  <a:pt x="10840" y="17760"/>
                </a:cubicBezTo>
                <a:cubicBezTo>
                  <a:pt x="10902" y="17796"/>
                  <a:pt x="11143" y="17865"/>
                  <a:pt x="11162" y="17934"/>
                </a:cubicBezTo>
                <a:cubicBezTo>
                  <a:pt x="11200" y="18068"/>
                  <a:pt x="11061" y="18111"/>
                  <a:pt x="10964" y="18132"/>
                </a:cubicBezTo>
                <a:cubicBezTo>
                  <a:pt x="10929" y="18062"/>
                  <a:pt x="10883" y="18004"/>
                  <a:pt x="10939" y="17934"/>
                </a:cubicBezTo>
                <a:cubicBezTo>
                  <a:pt x="11004" y="17853"/>
                  <a:pt x="11110" y="17830"/>
                  <a:pt x="11187" y="17760"/>
                </a:cubicBezTo>
                <a:cubicBezTo>
                  <a:pt x="11237" y="17714"/>
                  <a:pt x="11246" y="17696"/>
                  <a:pt x="11261" y="17636"/>
                </a:cubicBezTo>
                <a:cubicBezTo>
                  <a:pt x="11174" y="17592"/>
                  <a:pt x="11174" y="17590"/>
                  <a:pt x="11088" y="17611"/>
                </a:cubicBezTo>
                <a:cubicBezTo>
                  <a:pt x="11080" y="17611"/>
                  <a:pt x="11071" y="17611"/>
                  <a:pt x="11063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268880" y="642924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1956" y="17859"/>
                </a:moveTo>
                <a:cubicBezTo>
                  <a:pt x="11926" y="17877"/>
                  <a:pt x="11832" y="17950"/>
                  <a:pt x="11906" y="17959"/>
                </a:cubicBezTo>
                <a:cubicBezTo>
                  <a:pt x="11941" y="17959"/>
                  <a:pt x="11954" y="17950"/>
                  <a:pt x="11956" y="17909"/>
                </a:cubicBezTo>
                <a:cubicBezTo>
                  <a:pt x="11964" y="17909"/>
                  <a:pt x="11973" y="17909"/>
                  <a:pt x="11981" y="17909"/>
                </a:cubicBezTo>
                <a:cubicBezTo>
                  <a:pt x="11927" y="17931"/>
                  <a:pt x="11799" y="18016"/>
                  <a:pt x="11857" y="18008"/>
                </a:cubicBezTo>
                <a:cubicBezTo>
                  <a:pt x="11897" y="17988"/>
                  <a:pt x="11903" y="17979"/>
                  <a:pt x="11931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8535960" y="3571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713" y="9922"/>
                </a:moveTo>
                <a:lnTo>
                  <a:pt x="23713" y="9922"/>
                </a:lnTo>
                <a:lnTo>
                  <a:pt x="23713" y="99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8589960" y="361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862" y="10046"/>
                </a:moveTo>
                <a:lnTo>
                  <a:pt x="23862" y="10046"/>
                </a:lnTo>
                <a:lnTo>
                  <a:pt x="23862" y="100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53:40Z</dcterms:created>
  <dc:creator>ccps</dc:creator>
  <dc:description/>
  <dc:language>en-US</dc:language>
  <cp:lastModifiedBy>demcgra</cp:lastModifiedBy>
  <dcterms:modified xsi:type="dcterms:W3CDTF">2012-05-31T14:20:45Z</dcterms:modified>
  <cp:revision>10</cp:revision>
  <dc:subject/>
  <dc:title>Unit 13</dc:title>
</cp:coreProperties>
</file>